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4"/>
          </p:nvPr>
        </p:nvSpPr>
        <p:spPr>
          <a:xfrm>
            <a:off x="3887280" y="0"/>
            <a:ext cx="296892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52360" y="684000"/>
            <a:ext cx="455616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77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5"/>
          </p:nvPr>
        </p:nvSpPr>
        <p:spPr>
          <a:xfrm>
            <a:off x="0" y="866124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6"/>
          </p:nvPr>
        </p:nvSpPr>
        <p:spPr>
          <a:xfrm>
            <a:off x="3887280" y="8661240"/>
            <a:ext cx="296892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9B790-C478-4688-A9CF-4A9DAE818F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to significa que tem que ser possível oferecer os serviços do componente através de um ActiveX Server, para que a plataforma WINDOWS o supor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F50E-CA63-4365-8167-7EE6865EC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456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520" y="3918600"/>
            <a:ext cx="8456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203B-97C5-4C3B-881C-A864D61FE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91860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66840" y="391860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BC51-9B7D-4F90-AD31-7FE27C5D8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92640" y="137124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1760" y="137124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33520" y="391860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92640" y="391860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1760" y="391860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AE7D-4CA2-478B-B3DD-E6B0416E2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456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456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50480" y="66600"/>
            <a:ext cx="883764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91860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456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8006-801C-46D9-82B3-46A6A394E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66840" y="391860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918600"/>
            <a:ext cx="8456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456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3918600"/>
            <a:ext cx="8456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391860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66840" y="391860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92640" y="137124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51760" y="137124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391860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92640" y="391860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251760" y="3918600"/>
            <a:ext cx="2722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456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F8A7-1671-4016-905F-8A254D13F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2587-0334-4E10-903B-8AAB7DEA4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C278-5880-409F-8892-7F054BAC4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0480" y="66600"/>
            <a:ext cx="883764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FE20-E319-4093-A252-E50175964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1860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5B45-999C-4146-9294-95F531196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66840" y="391860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BDAC-A2C8-408D-806C-16CACD353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6840" y="1371240"/>
            <a:ext cx="4126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18600"/>
            <a:ext cx="8456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3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CDE1-3A09-4477-AACD-7E91101B0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990720" y="6519960"/>
            <a:ext cx="67802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900" spc="-1" strike="noStrike">
                <a:solidFill>
                  <a:srgbClr val="777571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777571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440" cy="3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0" y="0"/>
            <a:ext cx="1440" cy="3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3640"/>
            <a:ext cx="914400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20"/>
            <a:ext cx="914400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6320"/>
            <a:ext cx="144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8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50480" y="66600"/>
            <a:ext cx="8837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440" y="1066680"/>
            <a:ext cx="396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440" y="6324480"/>
            <a:ext cx="396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181080" y="1066680"/>
            <a:ext cx="39600" cy="5257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533520" y="1371240"/>
            <a:ext cx="8456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375"/>
              </a:spcAft>
              <a:buClr>
                <a:srgbClr val="000000"/>
              </a:buClr>
              <a:buFont typeface="Verdana"/>
              <a:buChar char="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375"/>
              </a:spcAft>
              <a:buClr>
                <a:srgbClr val="000000"/>
              </a:buClr>
              <a:buFont typeface="Verdana"/>
              <a:buChar char="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" name="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8440">
            <a:solidFill>
              <a:srgbClr val="4e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533160" y="6519960"/>
            <a:ext cx="4554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900" spc="-1" strike="noStrike">
                <a:solidFill>
                  <a:srgbClr val="777571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96616A-2A34-4C27-A30D-1BF338907D0C}" type="slidenum">
              <a:rPr b="1" lang="en-GB" sz="900" spc="-1" strike="noStrike">
                <a:solidFill>
                  <a:srgbClr val="777571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477120"/>
            <a:ext cx="9144000" cy="1440"/>
          </a:xfrm>
          <a:prstGeom prst="line">
            <a:avLst/>
          </a:prstGeom>
          <a:ln w="28440">
            <a:solidFill>
              <a:srgbClr val="8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8305920" y="6556320"/>
            <a:ext cx="53316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a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43000"/>
            <a:ext cx="14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90720"/>
            <a:ext cx="36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324480"/>
            <a:ext cx="36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8440">
            <a:solidFill>
              <a:srgbClr val="4e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0040" y="236520"/>
            <a:ext cx="2666880" cy="5367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52280" y="3693960"/>
            <a:ext cx="3915000" cy="3164040"/>
            <a:chOff x="152280" y="3693960"/>
            <a:chExt cx="3915000" cy="3164040"/>
          </a:xfrm>
        </p:grpSpPr>
        <p:sp>
          <p:nvSpPr>
            <p:cNvPr id="60" name=""/>
            <p:cNvSpPr/>
            <p:nvPr/>
          </p:nvSpPr>
          <p:spPr>
            <a:xfrm>
              <a:off x="1704960" y="5921280"/>
              <a:ext cx="1327320" cy="936720"/>
            </a:xfrm>
            <a:custGeom>
              <a:avLst/>
              <a:gdLst/>
              <a:ahLst/>
              <a:rect l="l" t="t" r="r" b="b"/>
              <a:pathLst>
                <a:path w="9869" h="6960">
                  <a:moveTo>
                    <a:pt x="8779" y="6960"/>
                  </a:moveTo>
                  <a:lnTo>
                    <a:pt x="8459" y="6956"/>
                  </a:lnTo>
                  <a:lnTo>
                    <a:pt x="8140" y="6944"/>
                  </a:lnTo>
                  <a:lnTo>
                    <a:pt x="7826" y="6924"/>
                  </a:lnTo>
                  <a:lnTo>
                    <a:pt x="7512" y="6895"/>
                  </a:lnTo>
                  <a:lnTo>
                    <a:pt x="7200" y="6860"/>
                  </a:lnTo>
                  <a:lnTo>
                    <a:pt x="6891" y="6816"/>
                  </a:lnTo>
                  <a:lnTo>
                    <a:pt x="6585" y="6766"/>
                  </a:lnTo>
                  <a:lnTo>
                    <a:pt x="6280" y="6707"/>
                  </a:lnTo>
                  <a:lnTo>
                    <a:pt x="5979" y="6641"/>
                  </a:lnTo>
                  <a:lnTo>
                    <a:pt x="5679" y="6567"/>
                  </a:lnTo>
                  <a:lnTo>
                    <a:pt x="5384" y="6487"/>
                  </a:lnTo>
                  <a:lnTo>
                    <a:pt x="5091" y="6399"/>
                  </a:lnTo>
                  <a:lnTo>
                    <a:pt x="4800" y="6305"/>
                  </a:lnTo>
                  <a:lnTo>
                    <a:pt x="4514" y="6204"/>
                  </a:lnTo>
                  <a:lnTo>
                    <a:pt x="4231" y="6095"/>
                  </a:lnTo>
                  <a:lnTo>
                    <a:pt x="3950" y="5981"/>
                  </a:lnTo>
                  <a:lnTo>
                    <a:pt x="3674" y="5859"/>
                  </a:lnTo>
                  <a:lnTo>
                    <a:pt x="3400" y="5732"/>
                  </a:lnTo>
                  <a:lnTo>
                    <a:pt x="3130" y="5597"/>
                  </a:lnTo>
                  <a:lnTo>
                    <a:pt x="2865" y="5457"/>
                  </a:lnTo>
                  <a:lnTo>
                    <a:pt x="2603" y="5310"/>
                  </a:lnTo>
                  <a:lnTo>
                    <a:pt x="2344" y="5157"/>
                  </a:lnTo>
                  <a:lnTo>
                    <a:pt x="2090" y="4998"/>
                  </a:lnTo>
                  <a:lnTo>
                    <a:pt x="1840" y="4833"/>
                  </a:lnTo>
                  <a:lnTo>
                    <a:pt x="1594" y="4662"/>
                  </a:lnTo>
                  <a:lnTo>
                    <a:pt x="1353" y="4486"/>
                  </a:lnTo>
                  <a:lnTo>
                    <a:pt x="1116" y="4305"/>
                  </a:lnTo>
                  <a:lnTo>
                    <a:pt x="883" y="4117"/>
                  </a:lnTo>
                  <a:lnTo>
                    <a:pt x="655" y="3924"/>
                  </a:lnTo>
                  <a:lnTo>
                    <a:pt x="432" y="3725"/>
                  </a:lnTo>
                  <a:lnTo>
                    <a:pt x="214" y="3522"/>
                  </a:lnTo>
                  <a:lnTo>
                    <a:pt x="0" y="3314"/>
                  </a:lnTo>
                  <a:lnTo>
                    <a:pt x="3314" y="0"/>
                  </a:lnTo>
                  <a:lnTo>
                    <a:pt x="3363" y="325"/>
                  </a:lnTo>
                  <a:lnTo>
                    <a:pt x="3425" y="644"/>
                  </a:lnTo>
                  <a:lnTo>
                    <a:pt x="3499" y="960"/>
                  </a:lnTo>
                  <a:lnTo>
                    <a:pt x="3586" y="1271"/>
                  </a:lnTo>
                  <a:lnTo>
                    <a:pt x="3683" y="1576"/>
                  </a:lnTo>
                  <a:lnTo>
                    <a:pt x="3794" y="1876"/>
                  </a:lnTo>
                  <a:lnTo>
                    <a:pt x="3916" y="2170"/>
                  </a:lnTo>
                  <a:lnTo>
                    <a:pt x="4049" y="2459"/>
                  </a:lnTo>
                  <a:lnTo>
                    <a:pt x="4191" y="2742"/>
                  </a:lnTo>
                  <a:lnTo>
                    <a:pt x="4346" y="3017"/>
                  </a:lnTo>
                  <a:lnTo>
                    <a:pt x="4511" y="3287"/>
                  </a:lnTo>
                  <a:lnTo>
                    <a:pt x="4685" y="3550"/>
                  </a:lnTo>
                  <a:lnTo>
                    <a:pt x="4870" y="3804"/>
                  </a:lnTo>
                  <a:lnTo>
                    <a:pt x="5063" y="4052"/>
                  </a:lnTo>
                  <a:lnTo>
                    <a:pt x="5267" y="4291"/>
                  </a:lnTo>
                  <a:lnTo>
                    <a:pt x="5479" y="4523"/>
                  </a:lnTo>
                  <a:lnTo>
                    <a:pt x="5699" y="4747"/>
                  </a:lnTo>
                  <a:lnTo>
                    <a:pt x="5928" y="4962"/>
                  </a:lnTo>
                  <a:lnTo>
                    <a:pt x="6165" y="5167"/>
                  </a:lnTo>
                  <a:lnTo>
                    <a:pt x="6410" y="5365"/>
                  </a:lnTo>
                  <a:lnTo>
                    <a:pt x="6664" y="5551"/>
                  </a:lnTo>
                  <a:lnTo>
                    <a:pt x="6924" y="5729"/>
                  </a:lnTo>
                  <a:lnTo>
                    <a:pt x="7190" y="5897"/>
                  </a:lnTo>
                  <a:lnTo>
                    <a:pt x="7465" y="6054"/>
                  </a:lnTo>
                  <a:lnTo>
                    <a:pt x="7745" y="6201"/>
                  </a:lnTo>
                  <a:lnTo>
                    <a:pt x="8032" y="6337"/>
                  </a:lnTo>
                  <a:lnTo>
                    <a:pt x="8325" y="6462"/>
                  </a:lnTo>
                  <a:lnTo>
                    <a:pt x="8623" y="6576"/>
                  </a:lnTo>
                  <a:lnTo>
                    <a:pt x="8927" y="6678"/>
                  </a:lnTo>
                  <a:lnTo>
                    <a:pt x="9236" y="6768"/>
                  </a:lnTo>
                  <a:lnTo>
                    <a:pt x="9549" y="6847"/>
                  </a:lnTo>
                  <a:lnTo>
                    <a:pt x="9869" y="6913"/>
                  </a:lnTo>
                  <a:lnTo>
                    <a:pt x="9801" y="6918"/>
                  </a:lnTo>
                  <a:lnTo>
                    <a:pt x="9734" y="6924"/>
                  </a:lnTo>
                  <a:lnTo>
                    <a:pt x="9666" y="6928"/>
                  </a:lnTo>
                  <a:lnTo>
                    <a:pt x="9598" y="6934"/>
                  </a:lnTo>
                  <a:lnTo>
                    <a:pt x="9531" y="6937"/>
                  </a:lnTo>
                  <a:lnTo>
                    <a:pt x="9463" y="6941"/>
                  </a:lnTo>
                  <a:lnTo>
                    <a:pt x="9395" y="6945"/>
                  </a:lnTo>
                  <a:lnTo>
                    <a:pt x="9327" y="6948"/>
                  </a:lnTo>
                  <a:lnTo>
                    <a:pt x="9259" y="6951"/>
                  </a:lnTo>
                  <a:lnTo>
                    <a:pt x="9191" y="6953"/>
                  </a:lnTo>
                  <a:lnTo>
                    <a:pt x="9121" y="6956"/>
                  </a:lnTo>
                  <a:lnTo>
                    <a:pt x="9053" y="6957"/>
                  </a:lnTo>
                  <a:lnTo>
                    <a:pt x="8984" y="6958"/>
                  </a:lnTo>
                  <a:lnTo>
                    <a:pt x="8916" y="6959"/>
                  </a:lnTo>
                  <a:lnTo>
                    <a:pt x="8847" y="6960"/>
                  </a:lnTo>
                  <a:lnTo>
                    <a:pt x="8779" y="6960"/>
                  </a:lnTo>
                  <a:close/>
                </a:path>
              </a:pathLst>
            </a:custGeom>
            <a:solidFill>
              <a:srgbClr val="8ead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73400" y="4789440"/>
              <a:ext cx="1793880" cy="846360"/>
            </a:xfrm>
            <a:custGeom>
              <a:avLst/>
              <a:gdLst/>
              <a:ahLst/>
              <a:rect l="l" t="t" r="r" b="b"/>
              <a:pathLst>
                <a:path w="13332" h="6294">
                  <a:moveTo>
                    <a:pt x="13332" y="2975"/>
                  </a:moveTo>
                  <a:lnTo>
                    <a:pt x="10014" y="6294"/>
                  </a:lnTo>
                  <a:lnTo>
                    <a:pt x="9881" y="6164"/>
                  </a:lnTo>
                  <a:lnTo>
                    <a:pt x="9745" y="6037"/>
                  </a:lnTo>
                  <a:lnTo>
                    <a:pt x="9607" y="5914"/>
                  </a:lnTo>
                  <a:lnTo>
                    <a:pt x="9465" y="5794"/>
                  </a:lnTo>
                  <a:lnTo>
                    <a:pt x="9320" y="5677"/>
                  </a:lnTo>
                  <a:lnTo>
                    <a:pt x="9172" y="5564"/>
                  </a:lnTo>
                  <a:lnTo>
                    <a:pt x="9023" y="5454"/>
                  </a:lnTo>
                  <a:lnTo>
                    <a:pt x="8869" y="5349"/>
                  </a:lnTo>
                  <a:lnTo>
                    <a:pt x="8715" y="5246"/>
                  </a:lnTo>
                  <a:lnTo>
                    <a:pt x="8557" y="5147"/>
                  </a:lnTo>
                  <a:lnTo>
                    <a:pt x="8395" y="5051"/>
                  </a:lnTo>
                  <a:lnTo>
                    <a:pt x="8233" y="4960"/>
                  </a:lnTo>
                  <a:lnTo>
                    <a:pt x="8067" y="4874"/>
                  </a:lnTo>
                  <a:lnTo>
                    <a:pt x="7900" y="4789"/>
                  </a:lnTo>
                  <a:lnTo>
                    <a:pt x="7729" y="4710"/>
                  </a:lnTo>
                  <a:lnTo>
                    <a:pt x="7557" y="4634"/>
                  </a:lnTo>
                  <a:lnTo>
                    <a:pt x="7383" y="4563"/>
                  </a:lnTo>
                  <a:lnTo>
                    <a:pt x="7207" y="4496"/>
                  </a:lnTo>
                  <a:lnTo>
                    <a:pt x="7028" y="4433"/>
                  </a:lnTo>
                  <a:lnTo>
                    <a:pt x="6848" y="4374"/>
                  </a:lnTo>
                  <a:lnTo>
                    <a:pt x="6666" y="4320"/>
                  </a:lnTo>
                  <a:lnTo>
                    <a:pt x="6482" y="4269"/>
                  </a:lnTo>
                  <a:lnTo>
                    <a:pt x="6296" y="4224"/>
                  </a:lnTo>
                  <a:lnTo>
                    <a:pt x="6109" y="4183"/>
                  </a:lnTo>
                  <a:lnTo>
                    <a:pt x="5919" y="4146"/>
                  </a:lnTo>
                  <a:lnTo>
                    <a:pt x="5729" y="4115"/>
                  </a:lnTo>
                  <a:lnTo>
                    <a:pt x="5536" y="4088"/>
                  </a:lnTo>
                  <a:lnTo>
                    <a:pt x="5343" y="4066"/>
                  </a:lnTo>
                  <a:lnTo>
                    <a:pt x="5148" y="4048"/>
                  </a:lnTo>
                  <a:lnTo>
                    <a:pt x="4951" y="4035"/>
                  </a:lnTo>
                  <a:lnTo>
                    <a:pt x="4754" y="4028"/>
                  </a:lnTo>
                  <a:lnTo>
                    <a:pt x="4555" y="4025"/>
                  </a:lnTo>
                  <a:lnTo>
                    <a:pt x="4396" y="4028"/>
                  </a:lnTo>
                  <a:lnTo>
                    <a:pt x="4237" y="4032"/>
                  </a:lnTo>
                  <a:lnTo>
                    <a:pt x="4080" y="4040"/>
                  </a:lnTo>
                  <a:lnTo>
                    <a:pt x="3923" y="4051"/>
                  </a:lnTo>
                  <a:lnTo>
                    <a:pt x="3767" y="4066"/>
                  </a:lnTo>
                  <a:lnTo>
                    <a:pt x="3613" y="4083"/>
                  </a:lnTo>
                  <a:lnTo>
                    <a:pt x="3458" y="4103"/>
                  </a:lnTo>
                  <a:lnTo>
                    <a:pt x="3305" y="4126"/>
                  </a:lnTo>
                  <a:lnTo>
                    <a:pt x="3153" y="4154"/>
                  </a:lnTo>
                  <a:lnTo>
                    <a:pt x="3002" y="4182"/>
                  </a:lnTo>
                  <a:lnTo>
                    <a:pt x="2852" y="4215"/>
                  </a:lnTo>
                  <a:lnTo>
                    <a:pt x="2703" y="4250"/>
                  </a:lnTo>
                  <a:lnTo>
                    <a:pt x="2556" y="4289"/>
                  </a:lnTo>
                  <a:lnTo>
                    <a:pt x="2409" y="4329"/>
                  </a:lnTo>
                  <a:lnTo>
                    <a:pt x="2263" y="4373"/>
                  </a:lnTo>
                  <a:lnTo>
                    <a:pt x="2119" y="4419"/>
                  </a:lnTo>
                  <a:lnTo>
                    <a:pt x="1975" y="4469"/>
                  </a:lnTo>
                  <a:lnTo>
                    <a:pt x="1834" y="4521"/>
                  </a:lnTo>
                  <a:lnTo>
                    <a:pt x="1693" y="4576"/>
                  </a:lnTo>
                  <a:lnTo>
                    <a:pt x="1554" y="4633"/>
                  </a:lnTo>
                  <a:lnTo>
                    <a:pt x="1417" y="4694"/>
                  </a:lnTo>
                  <a:lnTo>
                    <a:pt x="1281" y="4756"/>
                  </a:lnTo>
                  <a:lnTo>
                    <a:pt x="1146" y="4821"/>
                  </a:lnTo>
                  <a:lnTo>
                    <a:pt x="1012" y="4889"/>
                  </a:lnTo>
                  <a:lnTo>
                    <a:pt x="880" y="4959"/>
                  </a:lnTo>
                  <a:lnTo>
                    <a:pt x="750" y="5032"/>
                  </a:lnTo>
                  <a:lnTo>
                    <a:pt x="620" y="5106"/>
                  </a:lnTo>
                  <a:lnTo>
                    <a:pt x="493" y="5184"/>
                  </a:lnTo>
                  <a:lnTo>
                    <a:pt x="367" y="5263"/>
                  </a:lnTo>
                  <a:lnTo>
                    <a:pt x="243" y="5345"/>
                  </a:lnTo>
                  <a:lnTo>
                    <a:pt x="121" y="5430"/>
                  </a:lnTo>
                  <a:lnTo>
                    <a:pt x="0" y="5517"/>
                  </a:lnTo>
                  <a:lnTo>
                    <a:pt x="83" y="5223"/>
                  </a:lnTo>
                  <a:lnTo>
                    <a:pt x="177" y="4933"/>
                  </a:lnTo>
                  <a:lnTo>
                    <a:pt x="284" y="4649"/>
                  </a:lnTo>
                  <a:lnTo>
                    <a:pt x="401" y="4371"/>
                  </a:lnTo>
                  <a:lnTo>
                    <a:pt x="529" y="4098"/>
                  </a:lnTo>
                  <a:lnTo>
                    <a:pt x="669" y="3832"/>
                  </a:lnTo>
                  <a:lnTo>
                    <a:pt x="818" y="3572"/>
                  </a:lnTo>
                  <a:lnTo>
                    <a:pt x="978" y="3319"/>
                  </a:lnTo>
                  <a:lnTo>
                    <a:pt x="1147" y="3073"/>
                  </a:lnTo>
                  <a:lnTo>
                    <a:pt x="1326" y="2834"/>
                  </a:lnTo>
                  <a:lnTo>
                    <a:pt x="1515" y="2603"/>
                  </a:lnTo>
                  <a:lnTo>
                    <a:pt x="1712" y="2380"/>
                  </a:lnTo>
                  <a:lnTo>
                    <a:pt x="1918" y="2164"/>
                  </a:lnTo>
                  <a:lnTo>
                    <a:pt x="2132" y="1958"/>
                  </a:lnTo>
                  <a:lnTo>
                    <a:pt x="2355" y="1760"/>
                  </a:lnTo>
                  <a:lnTo>
                    <a:pt x="2586" y="1571"/>
                  </a:lnTo>
                  <a:lnTo>
                    <a:pt x="2825" y="1391"/>
                  </a:lnTo>
                  <a:lnTo>
                    <a:pt x="3069" y="1221"/>
                  </a:lnTo>
                  <a:lnTo>
                    <a:pt x="3323" y="1061"/>
                  </a:lnTo>
                  <a:lnTo>
                    <a:pt x="3582" y="910"/>
                  </a:lnTo>
                  <a:lnTo>
                    <a:pt x="3847" y="771"/>
                  </a:lnTo>
                  <a:lnTo>
                    <a:pt x="4119" y="641"/>
                  </a:lnTo>
                  <a:lnTo>
                    <a:pt x="4398" y="523"/>
                  </a:lnTo>
                  <a:lnTo>
                    <a:pt x="4681" y="417"/>
                  </a:lnTo>
                  <a:lnTo>
                    <a:pt x="4971" y="321"/>
                  </a:lnTo>
                  <a:lnTo>
                    <a:pt x="5265" y="238"/>
                  </a:lnTo>
                  <a:lnTo>
                    <a:pt x="5563" y="166"/>
                  </a:lnTo>
                  <a:lnTo>
                    <a:pt x="5867" y="107"/>
                  </a:lnTo>
                  <a:lnTo>
                    <a:pt x="6175" y="60"/>
                  </a:lnTo>
                  <a:lnTo>
                    <a:pt x="6486" y="27"/>
                  </a:lnTo>
                  <a:lnTo>
                    <a:pt x="6801" y="6"/>
                  </a:lnTo>
                  <a:lnTo>
                    <a:pt x="7120" y="0"/>
                  </a:lnTo>
                  <a:lnTo>
                    <a:pt x="7347" y="4"/>
                  </a:lnTo>
                  <a:lnTo>
                    <a:pt x="7571" y="15"/>
                  </a:lnTo>
                  <a:lnTo>
                    <a:pt x="7794" y="32"/>
                  </a:lnTo>
                  <a:lnTo>
                    <a:pt x="8016" y="58"/>
                  </a:lnTo>
                  <a:lnTo>
                    <a:pt x="8234" y="91"/>
                  </a:lnTo>
                  <a:lnTo>
                    <a:pt x="8451" y="129"/>
                  </a:lnTo>
                  <a:lnTo>
                    <a:pt x="8668" y="175"/>
                  </a:lnTo>
                  <a:lnTo>
                    <a:pt x="8880" y="227"/>
                  </a:lnTo>
                  <a:lnTo>
                    <a:pt x="9091" y="285"/>
                  </a:lnTo>
                  <a:lnTo>
                    <a:pt x="9301" y="350"/>
                  </a:lnTo>
                  <a:lnTo>
                    <a:pt x="9508" y="420"/>
                  </a:lnTo>
                  <a:lnTo>
                    <a:pt x="9713" y="496"/>
                  </a:lnTo>
                  <a:lnTo>
                    <a:pt x="9916" y="577"/>
                  </a:lnTo>
                  <a:lnTo>
                    <a:pt x="10117" y="663"/>
                  </a:lnTo>
                  <a:lnTo>
                    <a:pt x="10316" y="756"/>
                  </a:lnTo>
                  <a:lnTo>
                    <a:pt x="10512" y="853"/>
                  </a:lnTo>
                  <a:lnTo>
                    <a:pt x="10706" y="955"/>
                  </a:lnTo>
                  <a:lnTo>
                    <a:pt x="10898" y="1063"/>
                  </a:lnTo>
                  <a:lnTo>
                    <a:pt x="11087" y="1175"/>
                  </a:lnTo>
                  <a:lnTo>
                    <a:pt x="11275" y="1291"/>
                  </a:lnTo>
                  <a:lnTo>
                    <a:pt x="11460" y="1411"/>
                  </a:lnTo>
                  <a:lnTo>
                    <a:pt x="11642" y="1536"/>
                  </a:lnTo>
                  <a:lnTo>
                    <a:pt x="11822" y="1664"/>
                  </a:lnTo>
                  <a:lnTo>
                    <a:pt x="12000" y="1797"/>
                  </a:lnTo>
                  <a:lnTo>
                    <a:pt x="12175" y="1933"/>
                  </a:lnTo>
                  <a:lnTo>
                    <a:pt x="12349" y="2072"/>
                  </a:lnTo>
                  <a:lnTo>
                    <a:pt x="12519" y="2216"/>
                  </a:lnTo>
                  <a:lnTo>
                    <a:pt x="12687" y="2362"/>
                  </a:lnTo>
                  <a:lnTo>
                    <a:pt x="12851" y="2511"/>
                  </a:lnTo>
                  <a:lnTo>
                    <a:pt x="13015" y="2663"/>
                  </a:lnTo>
                  <a:lnTo>
                    <a:pt x="13175" y="2817"/>
                  </a:lnTo>
                  <a:lnTo>
                    <a:pt x="13332" y="2975"/>
                  </a:lnTo>
                  <a:close/>
                </a:path>
              </a:pathLst>
            </a:custGeom>
            <a:solidFill>
              <a:srgbClr val="8ead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73400" y="5921280"/>
              <a:ext cx="1347840" cy="847800"/>
            </a:xfrm>
            <a:custGeom>
              <a:avLst/>
              <a:gdLst/>
              <a:ahLst/>
              <a:rect l="l" t="t" r="r" b="b"/>
              <a:pathLst>
                <a:path w="10015" h="6292">
                  <a:moveTo>
                    <a:pt x="0" y="777"/>
                  </a:moveTo>
                  <a:lnTo>
                    <a:pt x="121" y="864"/>
                  </a:lnTo>
                  <a:lnTo>
                    <a:pt x="244" y="949"/>
                  </a:lnTo>
                  <a:lnTo>
                    <a:pt x="368" y="1031"/>
                  </a:lnTo>
                  <a:lnTo>
                    <a:pt x="493" y="1111"/>
                  </a:lnTo>
                  <a:lnTo>
                    <a:pt x="620" y="1188"/>
                  </a:lnTo>
                  <a:lnTo>
                    <a:pt x="750" y="1262"/>
                  </a:lnTo>
                  <a:lnTo>
                    <a:pt x="880" y="1336"/>
                  </a:lnTo>
                  <a:lnTo>
                    <a:pt x="1012" y="1406"/>
                  </a:lnTo>
                  <a:lnTo>
                    <a:pt x="1146" y="1473"/>
                  </a:lnTo>
                  <a:lnTo>
                    <a:pt x="1281" y="1539"/>
                  </a:lnTo>
                  <a:lnTo>
                    <a:pt x="1417" y="1601"/>
                  </a:lnTo>
                  <a:lnTo>
                    <a:pt x="1555" y="1661"/>
                  </a:lnTo>
                  <a:lnTo>
                    <a:pt x="1695" y="1718"/>
                  </a:lnTo>
                  <a:lnTo>
                    <a:pt x="1835" y="1773"/>
                  </a:lnTo>
                  <a:lnTo>
                    <a:pt x="1977" y="1825"/>
                  </a:lnTo>
                  <a:lnTo>
                    <a:pt x="2119" y="1875"/>
                  </a:lnTo>
                  <a:lnTo>
                    <a:pt x="2264" y="1921"/>
                  </a:lnTo>
                  <a:lnTo>
                    <a:pt x="2409" y="1965"/>
                  </a:lnTo>
                  <a:lnTo>
                    <a:pt x="2556" y="2005"/>
                  </a:lnTo>
                  <a:lnTo>
                    <a:pt x="2704" y="2044"/>
                  </a:lnTo>
                  <a:lnTo>
                    <a:pt x="2852" y="2079"/>
                  </a:lnTo>
                  <a:lnTo>
                    <a:pt x="3002" y="2112"/>
                  </a:lnTo>
                  <a:lnTo>
                    <a:pt x="3154" y="2141"/>
                  </a:lnTo>
                  <a:lnTo>
                    <a:pt x="3305" y="2168"/>
                  </a:lnTo>
                  <a:lnTo>
                    <a:pt x="3459" y="2191"/>
                  </a:lnTo>
                  <a:lnTo>
                    <a:pt x="3613" y="2211"/>
                  </a:lnTo>
                  <a:lnTo>
                    <a:pt x="3767" y="2229"/>
                  </a:lnTo>
                  <a:lnTo>
                    <a:pt x="3923" y="2243"/>
                  </a:lnTo>
                  <a:lnTo>
                    <a:pt x="4080" y="2254"/>
                  </a:lnTo>
                  <a:lnTo>
                    <a:pt x="4237" y="2262"/>
                  </a:lnTo>
                  <a:lnTo>
                    <a:pt x="4396" y="2266"/>
                  </a:lnTo>
                  <a:lnTo>
                    <a:pt x="4555" y="2269"/>
                  </a:lnTo>
                  <a:lnTo>
                    <a:pt x="4754" y="2266"/>
                  </a:lnTo>
                  <a:lnTo>
                    <a:pt x="4951" y="2259"/>
                  </a:lnTo>
                  <a:lnTo>
                    <a:pt x="5148" y="2246"/>
                  </a:lnTo>
                  <a:lnTo>
                    <a:pt x="5343" y="2228"/>
                  </a:lnTo>
                  <a:lnTo>
                    <a:pt x="5536" y="2206"/>
                  </a:lnTo>
                  <a:lnTo>
                    <a:pt x="5729" y="2179"/>
                  </a:lnTo>
                  <a:lnTo>
                    <a:pt x="5920" y="2148"/>
                  </a:lnTo>
                  <a:lnTo>
                    <a:pt x="6109" y="2111"/>
                  </a:lnTo>
                  <a:lnTo>
                    <a:pt x="6296" y="2070"/>
                  </a:lnTo>
                  <a:lnTo>
                    <a:pt x="6482" y="2024"/>
                  </a:lnTo>
                  <a:lnTo>
                    <a:pt x="6666" y="1974"/>
                  </a:lnTo>
                  <a:lnTo>
                    <a:pt x="6848" y="1920"/>
                  </a:lnTo>
                  <a:lnTo>
                    <a:pt x="7028" y="1861"/>
                  </a:lnTo>
                  <a:lnTo>
                    <a:pt x="7207" y="1798"/>
                  </a:lnTo>
                  <a:lnTo>
                    <a:pt x="7384" y="1731"/>
                  </a:lnTo>
                  <a:lnTo>
                    <a:pt x="7558" y="1660"/>
                  </a:lnTo>
                  <a:lnTo>
                    <a:pt x="7731" y="1584"/>
                  </a:lnTo>
                  <a:lnTo>
                    <a:pt x="7900" y="1504"/>
                  </a:lnTo>
                  <a:lnTo>
                    <a:pt x="8067" y="1420"/>
                  </a:lnTo>
                  <a:lnTo>
                    <a:pt x="8233" y="1334"/>
                  </a:lnTo>
                  <a:lnTo>
                    <a:pt x="8397" y="1241"/>
                  </a:lnTo>
                  <a:lnTo>
                    <a:pt x="8557" y="1147"/>
                  </a:lnTo>
                  <a:lnTo>
                    <a:pt x="8715" y="1048"/>
                  </a:lnTo>
                  <a:lnTo>
                    <a:pt x="8871" y="945"/>
                  </a:lnTo>
                  <a:lnTo>
                    <a:pt x="9023" y="839"/>
                  </a:lnTo>
                  <a:lnTo>
                    <a:pt x="9173" y="729"/>
                  </a:lnTo>
                  <a:lnTo>
                    <a:pt x="9320" y="616"/>
                  </a:lnTo>
                  <a:lnTo>
                    <a:pt x="9465" y="500"/>
                  </a:lnTo>
                  <a:lnTo>
                    <a:pt x="9607" y="380"/>
                  </a:lnTo>
                  <a:lnTo>
                    <a:pt x="9746" y="256"/>
                  </a:lnTo>
                  <a:lnTo>
                    <a:pt x="9882" y="130"/>
                  </a:lnTo>
                  <a:lnTo>
                    <a:pt x="10015" y="0"/>
                  </a:lnTo>
                  <a:lnTo>
                    <a:pt x="10015" y="5696"/>
                  </a:lnTo>
                  <a:lnTo>
                    <a:pt x="10014" y="5698"/>
                  </a:lnTo>
                  <a:lnTo>
                    <a:pt x="10014" y="5698"/>
                  </a:lnTo>
                  <a:lnTo>
                    <a:pt x="9929" y="5733"/>
                  </a:lnTo>
                  <a:lnTo>
                    <a:pt x="9846" y="5768"/>
                  </a:lnTo>
                  <a:lnTo>
                    <a:pt x="9762" y="5801"/>
                  </a:lnTo>
                  <a:lnTo>
                    <a:pt x="9676" y="5833"/>
                  </a:lnTo>
                  <a:lnTo>
                    <a:pt x="9590" y="5864"/>
                  </a:lnTo>
                  <a:lnTo>
                    <a:pt x="9505" y="5895"/>
                  </a:lnTo>
                  <a:lnTo>
                    <a:pt x="9418" y="5924"/>
                  </a:lnTo>
                  <a:lnTo>
                    <a:pt x="9330" y="5952"/>
                  </a:lnTo>
                  <a:lnTo>
                    <a:pt x="9244" y="5980"/>
                  </a:lnTo>
                  <a:lnTo>
                    <a:pt x="9156" y="6005"/>
                  </a:lnTo>
                  <a:lnTo>
                    <a:pt x="9067" y="6030"/>
                  </a:lnTo>
                  <a:lnTo>
                    <a:pt x="8978" y="6054"/>
                  </a:lnTo>
                  <a:lnTo>
                    <a:pt x="8889" y="6077"/>
                  </a:lnTo>
                  <a:lnTo>
                    <a:pt x="8799" y="6098"/>
                  </a:lnTo>
                  <a:lnTo>
                    <a:pt x="8709" y="6119"/>
                  </a:lnTo>
                  <a:lnTo>
                    <a:pt x="8618" y="6139"/>
                  </a:lnTo>
                  <a:lnTo>
                    <a:pt x="8527" y="6157"/>
                  </a:lnTo>
                  <a:lnTo>
                    <a:pt x="8436" y="6174"/>
                  </a:lnTo>
                  <a:lnTo>
                    <a:pt x="8344" y="6190"/>
                  </a:lnTo>
                  <a:lnTo>
                    <a:pt x="8253" y="6206"/>
                  </a:lnTo>
                  <a:lnTo>
                    <a:pt x="8160" y="6219"/>
                  </a:lnTo>
                  <a:lnTo>
                    <a:pt x="8067" y="6232"/>
                  </a:lnTo>
                  <a:lnTo>
                    <a:pt x="7974" y="6243"/>
                  </a:lnTo>
                  <a:lnTo>
                    <a:pt x="7880" y="6254"/>
                  </a:lnTo>
                  <a:lnTo>
                    <a:pt x="7786" y="6263"/>
                  </a:lnTo>
                  <a:lnTo>
                    <a:pt x="7692" y="6270"/>
                  </a:lnTo>
                  <a:lnTo>
                    <a:pt x="7598" y="6277"/>
                  </a:lnTo>
                  <a:lnTo>
                    <a:pt x="7502" y="6282"/>
                  </a:lnTo>
                  <a:lnTo>
                    <a:pt x="7408" y="6287"/>
                  </a:lnTo>
                  <a:lnTo>
                    <a:pt x="7312" y="6290"/>
                  </a:lnTo>
                  <a:lnTo>
                    <a:pt x="7216" y="6292"/>
                  </a:lnTo>
                  <a:lnTo>
                    <a:pt x="7120" y="6292"/>
                  </a:lnTo>
                  <a:lnTo>
                    <a:pt x="6801" y="6286"/>
                  </a:lnTo>
                  <a:lnTo>
                    <a:pt x="6486" y="6266"/>
                  </a:lnTo>
                  <a:lnTo>
                    <a:pt x="6175" y="6232"/>
                  </a:lnTo>
                  <a:lnTo>
                    <a:pt x="5867" y="6186"/>
                  </a:lnTo>
                  <a:lnTo>
                    <a:pt x="5563" y="6127"/>
                  </a:lnTo>
                  <a:lnTo>
                    <a:pt x="5265" y="6055"/>
                  </a:lnTo>
                  <a:lnTo>
                    <a:pt x="4971" y="5972"/>
                  </a:lnTo>
                  <a:lnTo>
                    <a:pt x="4682" y="5876"/>
                  </a:lnTo>
                  <a:lnTo>
                    <a:pt x="4398" y="5769"/>
                  </a:lnTo>
                  <a:lnTo>
                    <a:pt x="4121" y="5651"/>
                  </a:lnTo>
                  <a:lnTo>
                    <a:pt x="3848" y="5522"/>
                  </a:lnTo>
                  <a:lnTo>
                    <a:pt x="3583" y="5383"/>
                  </a:lnTo>
                  <a:lnTo>
                    <a:pt x="3323" y="5232"/>
                  </a:lnTo>
                  <a:lnTo>
                    <a:pt x="3071" y="5072"/>
                  </a:lnTo>
                  <a:lnTo>
                    <a:pt x="2825" y="4902"/>
                  </a:lnTo>
                  <a:lnTo>
                    <a:pt x="2587" y="4722"/>
                  </a:lnTo>
                  <a:lnTo>
                    <a:pt x="2356" y="4533"/>
                  </a:lnTo>
                  <a:lnTo>
                    <a:pt x="2133" y="4336"/>
                  </a:lnTo>
                  <a:lnTo>
                    <a:pt x="1918" y="4128"/>
                  </a:lnTo>
                  <a:lnTo>
                    <a:pt x="1713" y="3913"/>
                  </a:lnTo>
                  <a:lnTo>
                    <a:pt x="1516" y="3691"/>
                  </a:lnTo>
                  <a:lnTo>
                    <a:pt x="1327" y="3459"/>
                  </a:lnTo>
                  <a:lnTo>
                    <a:pt x="1148" y="3221"/>
                  </a:lnTo>
                  <a:lnTo>
                    <a:pt x="978" y="2974"/>
                  </a:lnTo>
                  <a:lnTo>
                    <a:pt x="819" y="2722"/>
                  </a:lnTo>
                  <a:lnTo>
                    <a:pt x="670" y="2462"/>
                  </a:lnTo>
                  <a:lnTo>
                    <a:pt x="530" y="2196"/>
                  </a:lnTo>
                  <a:lnTo>
                    <a:pt x="402" y="1923"/>
                  </a:lnTo>
                  <a:lnTo>
                    <a:pt x="285" y="1645"/>
                  </a:lnTo>
                  <a:lnTo>
                    <a:pt x="178" y="1361"/>
                  </a:lnTo>
                  <a:lnTo>
                    <a:pt x="84" y="1071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89a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52800" y="4699080"/>
              <a:ext cx="895320" cy="936720"/>
            </a:xfrm>
            <a:custGeom>
              <a:avLst/>
              <a:gdLst/>
              <a:ahLst/>
              <a:rect l="l" t="t" r="r" b="b"/>
              <a:pathLst>
                <a:path w="6658" h="6957">
                  <a:moveTo>
                    <a:pt x="5461" y="0"/>
                  </a:moveTo>
                  <a:lnTo>
                    <a:pt x="5537" y="0"/>
                  </a:lnTo>
                  <a:lnTo>
                    <a:pt x="5611" y="1"/>
                  </a:lnTo>
                  <a:lnTo>
                    <a:pt x="5687" y="2"/>
                  </a:lnTo>
                  <a:lnTo>
                    <a:pt x="5763" y="3"/>
                  </a:lnTo>
                  <a:lnTo>
                    <a:pt x="5839" y="5"/>
                  </a:lnTo>
                  <a:lnTo>
                    <a:pt x="5913" y="9"/>
                  </a:lnTo>
                  <a:lnTo>
                    <a:pt x="5988" y="11"/>
                  </a:lnTo>
                  <a:lnTo>
                    <a:pt x="6063" y="14"/>
                  </a:lnTo>
                  <a:lnTo>
                    <a:pt x="6138" y="19"/>
                  </a:lnTo>
                  <a:lnTo>
                    <a:pt x="6213" y="23"/>
                  </a:lnTo>
                  <a:lnTo>
                    <a:pt x="6287" y="27"/>
                  </a:lnTo>
                  <a:lnTo>
                    <a:pt x="6362" y="33"/>
                  </a:lnTo>
                  <a:lnTo>
                    <a:pt x="6437" y="38"/>
                  </a:lnTo>
                  <a:lnTo>
                    <a:pt x="6510" y="44"/>
                  </a:lnTo>
                  <a:lnTo>
                    <a:pt x="6585" y="50"/>
                  </a:lnTo>
                  <a:lnTo>
                    <a:pt x="6658" y="58"/>
                  </a:lnTo>
                  <a:lnTo>
                    <a:pt x="6337" y="120"/>
                  </a:lnTo>
                  <a:lnTo>
                    <a:pt x="6019" y="194"/>
                  </a:lnTo>
                  <a:lnTo>
                    <a:pt x="5706" y="282"/>
                  </a:lnTo>
                  <a:lnTo>
                    <a:pt x="5397" y="381"/>
                  </a:lnTo>
                  <a:lnTo>
                    <a:pt x="5096" y="492"/>
                  </a:lnTo>
                  <a:lnTo>
                    <a:pt x="4798" y="614"/>
                  </a:lnTo>
                  <a:lnTo>
                    <a:pt x="4509" y="748"/>
                  </a:lnTo>
                  <a:lnTo>
                    <a:pt x="4223" y="893"/>
                  </a:lnTo>
                  <a:lnTo>
                    <a:pt x="3946" y="1049"/>
                  </a:lnTo>
                  <a:lnTo>
                    <a:pt x="3675" y="1216"/>
                  </a:lnTo>
                  <a:lnTo>
                    <a:pt x="3411" y="1391"/>
                  </a:lnTo>
                  <a:lnTo>
                    <a:pt x="3155" y="1578"/>
                  </a:lnTo>
                  <a:lnTo>
                    <a:pt x="2906" y="1774"/>
                  </a:lnTo>
                  <a:lnTo>
                    <a:pt x="2665" y="1979"/>
                  </a:lnTo>
                  <a:lnTo>
                    <a:pt x="2433" y="2193"/>
                  </a:lnTo>
                  <a:lnTo>
                    <a:pt x="2208" y="2416"/>
                  </a:lnTo>
                  <a:lnTo>
                    <a:pt x="1993" y="2648"/>
                  </a:lnTo>
                  <a:lnTo>
                    <a:pt x="1786" y="2888"/>
                  </a:lnTo>
                  <a:lnTo>
                    <a:pt x="1589" y="3136"/>
                  </a:lnTo>
                  <a:lnTo>
                    <a:pt x="1401" y="3392"/>
                  </a:lnTo>
                  <a:lnTo>
                    <a:pt x="1224" y="3654"/>
                  </a:lnTo>
                  <a:lnTo>
                    <a:pt x="1057" y="3924"/>
                  </a:lnTo>
                  <a:lnTo>
                    <a:pt x="900" y="4201"/>
                  </a:lnTo>
                  <a:lnTo>
                    <a:pt x="753" y="4485"/>
                  </a:lnTo>
                  <a:lnTo>
                    <a:pt x="618" y="4774"/>
                  </a:lnTo>
                  <a:lnTo>
                    <a:pt x="494" y="5071"/>
                  </a:lnTo>
                  <a:lnTo>
                    <a:pt x="381" y="5372"/>
                  </a:lnTo>
                  <a:lnTo>
                    <a:pt x="280" y="5678"/>
                  </a:lnTo>
                  <a:lnTo>
                    <a:pt x="191" y="5991"/>
                  </a:lnTo>
                  <a:lnTo>
                    <a:pt x="115" y="6308"/>
                  </a:lnTo>
                  <a:lnTo>
                    <a:pt x="52" y="6630"/>
                  </a:lnTo>
                  <a:lnTo>
                    <a:pt x="0" y="6957"/>
                  </a:lnTo>
                  <a:lnTo>
                    <a:pt x="0" y="1270"/>
                  </a:lnTo>
                  <a:lnTo>
                    <a:pt x="156" y="1194"/>
                  </a:lnTo>
                  <a:lnTo>
                    <a:pt x="312" y="1121"/>
                  </a:lnTo>
                  <a:lnTo>
                    <a:pt x="470" y="1050"/>
                  </a:lnTo>
                  <a:lnTo>
                    <a:pt x="629" y="981"/>
                  </a:lnTo>
                  <a:lnTo>
                    <a:pt x="788" y="915"/>
                  </a:lnTo>
                  <a:lnTo>
                    <a:pt x="949" y="850"/>
                  </a:lnTo>
                  <a:lnTo>
                    <a:pt x="1112" y="788"/>
                  </a:lnTo>
                  <a:lnTo>
                    <a:pt x="1274" y="729"/>
                  </a:lnTo>
                  <a:lnTo>
                    <a:pt x="1439" y="670"/>
                  </a:lnTo>
                  <a:lnTo>
                    <a:pt x="1603" y="614"/>
                  </a:lnTo>
                  <a:lnTo>
                    <a:pt x="1770" y="562"/>
                  </a:lnTo>
                  <a:lnTo>
                    <a:pt x="1937" y="510"/>
                  </a:lnTo>
                  <a:lnTo>
                    <a:pt x="2105" y="462"/>
                  </a:lnTo>
                  <a:lnTo>
                    <a:pt x="2275" y="416"/>
                  </a:lnTo>
                  <a:lnTo>
                    <a:pt x="2445" y="372"/>
                  </a:lnTo>
                  <a:lnTo>
                    <a:pt x="2615" y="330"/>
                  </a:lnTo>
                  <a:lnTo>
                    <a:pt x="2787" y="291"/>
                  </a:lnTo>
                  <a:lnTo>
                    <a:pt x="2959" y="253"/>
                  </a:lnTo>
                  <a:lnTo>
                    <a:pt x="3134" y="219"/>
                  </a:lnTo>
                  <a:lnTo>
                    <a:pt x="3308" y="188"/>
                  </a:lnTo>
                  <a:lnTo>
                    <a:pt x="3483" y="158"/>
                  </a:lnTo>
                  <a:lnTo>
                    <a:pt x="3659" y="131"/>
                  </a:lnTo>
                  <a:lnTo>
                    <a:pt x="3836" y="106"/>
                  </a:lnTo>
                  <a:lnTo>
                    <a:pt x="4014" y="84"/>
                  </a:lnTo>
                  <a:lnTo>
                    <a:pt x="4193" y="65"/>
                  </a:lnTo>
                  <a:lnTo>
                    <a:pt x="4372" y="47"/>
                  </a:lnTo>
                  <a:lnTo>
                    <a:pt x="4551" y="33"/>
                  </a:lnTo>
                  <a:lnTo>
                    <a:pt x="4731" y="21"/>
                  </a:lnTo>
                  <a:lnTo>
                    <a:pt x="4912" y="12"/>
                  </a:lnTo>
                  <a:lnTo>
                    <a:pt x="5095" y="5"/>
                  </a:lnTo>
                  <a:lnTo>
                    <a:pt x="5278" y="1"/>
                  </a:lnTo>
                  <a:lnTo>
                    <a:pt x="5461" y="0"/>
                  </a:lnTo>
                  <a:close/>
                </a:path>
              </a:pathLst>
            </a:custGeom>
            <a:solidFill>
              <a:srgbClr val="89a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4916520"/>
              <a:ext cx="1327320" cy="936720"/>
            </a:xfrm>
            <a:custGeom>
              <a:avLst/>
              <a:gdLst/>
              <a:ahLst/>
              <a:rect l="l" t="t" r="r" b="b"/>
              <a:pathLst>
                <a:path w="9869" h="6960">
                  <a:moveTo>
                    <a:pt x="8779" y="6960"/>
                  </a:moveTo>
                  <a:lnTo>
                    <a:pt x="8459" y="6956"/>
                  </a:lnTo>
                  <a:lnTo>
                    <a:pt x="8140" y="6944"/>
                  </a:lnTo>
                  <a:lnTo>
                    <a:pt x="7826" y="6924"/>
                  </a:lnTo>
                  <a:lnTo>
                    <a:pt x="7512" y="6895"/>
                  </a:lnTo>
                  <a:lnTo>
                    <a:pt x="7200" y="6860"/>
                  </a:lnTo>
                  <a:lnTo>
                    <a:pt x="6891" y="6816"/>
                  </a:lnTo>
                  <a:lnTo>
                    <a:pt x="6585" y="6766"/>
                  </a:lnTo>
                  <a:lnTo>
                    <a:pt x="6280" y="6707"/>
                  </a:lnTo>
                  <a:lnTo>
                    <a:pt x="5979" y="6641"/>
                  </a:lnTo>
                  <a:lnTo>
                    <a:pt x="5679" y="6567"/>
                  </a:lnTo>
                  <a:lnTo>
                    <a:pt x="5384" y="6487"/>
                  </a:lnTo>
                  <a:lnTo>
                    <a:pt x="5091" y="6399"/>
                  </a:lnTo>
                  <a:lnTo>
                    <a:pt x="4800" y="6305"/>
                  </a:lnTo>
                  <a:lnTo>
                    <a:pt x="4514" y="6204"/>
                  </a:lnTo>
                  <a:lnTo>
                    <a:pt x="4231" y="6095"/>
                  </a:lnTo>
                  <a:lnTo>
                    <a:pt x="3950" y="5981"/>
                  </a:lnTo>
                  <a:lnTo>
                    <a:pt x="3674" y="5859"/>
                  </a:lnTo>
                  <a:lnTo>
                    <a:pt x="3400" y="5732"/>
                  </a:lnTo>
                  <a:lnTo>
                    <a:pt x="3130" y="5597"/>
                  </a:lnTo>
                  <a:lnTo>
                    <a:pt x="2865" y="5457"/>
                  </a:lnTo>
                  <a:lnTo>
                    <a:pt x="2603" y="5310"/>
                  </a:lnTo>
                  <a:lnTo>
                    <a:pt x="2344" y="5157"/>
                  </a:lnTo>
                  <a:lnTo>
                    <a:pt x="2090" y="4998"/>
                  </a:lnTo>
                  <a:lnTo>
                    <a:pt x="1840" y="4833"/>
                  </a:lnTo>
                  <a:lnTo>
                    <a:pt x="1594" y="4662"/>
                  </a:lnTo>
                  <a:lnTo>
                    <a:pt x="1353" y="4486"/>
                  </a:lnTo>
                  <a:lnTo>
                    <a:pt x="1116" y="4305"/>
                  </a:lnTo>
                  <a:lnTo>
                    <a:pt x="883" y="4117"/>
                  </a:lnTo>
                  <a:lnTo>
                    <a:pt x="655" y="3924"/>
                  </a:lnTo>
                  <a:lnTo>
                    <a:pt x="432" y="3725"/>
                  </a:lnTo>
                  <a:lnTo>
                    <a:pt x="214" y="3522"/>
                  </a:lnTo>
                  <a:lnTo>
                    <a:pt x="0" y="3314"/>
                  </a:lnTo>
                  <a:lnTo>
                    <a:pt x="3314" y="0"/>
                  </a:lnTo>
                  <a:lnTo>
                    <a:pt x="3363" y="325"/>
                  </a:lnTo>
                  <a:lnTo>
                    <a:pt x="3425" y="644"/>
                  </a:lnTo>
                  <a:lnTo>
                    <a:pt x="3499" y="960"/>
                  </a:lnTo>
                  <a:lnTo>
                    <a:pt x="3586" y="1271"/>
                  </a:lnTo>
                  <a:lnTo>
                    <a:pt x="3683" y="1576"/>
                  </a:lnTo>
                  <a:lnTo>
                    <a:pt x="3794" y="1876"/>
                  </a:lnTo>
                  <a:lnTo>
                    <a:pt x="3916" y="2170"/>
                  </a:lnTo>
                  <a:lnTo>
                    <a:pt x="4049" y="2459"/>
                  </a:lnTo>
                  <a:lnTo>
                    <a:pt x="4191" y="2742"/>
                  </a:lnTo>
                  <a:lnTo>
                    <a:pt x="4346" y="3017"/>
                  </a:lnTo>
                  <a:lnTo>
                    <a:pt x="4511" y="3287"/>
                  </a:lnTo>
                  <a:lnTo>
                    <a:pt x="4685" y="3550"/>
                  </a:lnTo>
                  <a:lnTo>
                    <a:pt x="4870" y="3804"/>
                  </a:lnTo>
                  <a:lnTo>
                    <a:pt x="5063" y="4052"/>
                  </a:lnTo>
                  <a:lnTo>
                    <a:pt x="5267" y="4291"/>
                  </a:lnTo>
                  <a:lnTo>
                    <a:pt x="5479" y="4523"/>
                  </a:lnTo>
                  <a:lnTo>
                    <a:pt x="5699" y="4747"/>
                  </a:lnTo>
                  <a:lnTo>
                    <a:pt x="5928" y="4962"/>
                  </a:lnTo>
                  <a:lnTo>
                    <a:pt x="6165" y="5167"/>
                  </a:lnTo>
                  <a:lnTo>
                    <a:pt x="6410" y="5365"/>
                  </a:lnTo>
                  <a:lnTo>
                    <a:pt x="6664" y="5551"/>
                  </a:lnTo>
                  <a:lnTo>
                    <a:pt x="6924" y="5729"/>
                  </a:lnTo>
                  <a:lnTo>
                    <a:pt x="7190" y="5897"/>
                  </a:lnTo>
                  <a:lnTo>
                    <a:pt x="7465" y="6054"/>
                  </a:lnTo>
                  <a:lnTo>
                    <a:pt x="7745" y="6201"/>
                  </a:lnTo>
                  <a:lnTo>
                    <a:pt x="8032" y="6337"/>
                  </a:lnTo>
                  <a:lnTo>
                    <a:pt x="8325" y="6462"/>
                  </a:lnTo>
                  <a:lnTo>
                    <a:pt x="8623" y="6576"/>
                  </a:lnTo>
                  <a:lnTo>
                    <a:pt x="8927" y="6678"/>
                  </a:lnTo>
                  <a:lnTo>
                    <a:pt x="9236" y="6768"/>
                  </a:lnTo>
                  <a:lnTo>
                    <a:pt x="9549" y="6847"/>
                  </a:lnTo>
                  <a:lnTo>
                    <a:pt x="9869" y="6913"/>
                  </a:lnTo>
                  <a:lnTo>
                    <a:pt x="9801" y="6918"/>
                  </a:lnTo>
                  <a:lnTo>
                    <a:pt x="9734" y="6924"/>
                  </a:lnTo>
                  <a:lnTo>
                    <a:pt x="9666" y="6928"/>
                  </a:lnTo>
                  <a:lnTo>
                    <a:pt x="9598" y="6934"/>
                  </a:lnTo>
                  <a:lnTo>
                    <a:pt x="9531" y="6937"/>
                  </a:lnTo>
                  <a:lnTo>
                    <a:pt x="9463" y="6941"/>
                  </a:lnTo>
                  <a:lnTo>
                    <a:pt x="9395" y="6945"/>
                  </a:lnTo>
                  <a:lnTo>
                    <a:pt x="9327" y="6948"/>
                  </a:lnTo>
                  <a:lnTo>
                    <a:pt x="9259" y="6951"/>
                  </a:lnTo>
                  <a:lnTo>
                    <a:pt x="9191" y="6953"/>
                  </a:lnTo>
                  <a:lnTo>
                    <a:pt x="9121" y="6956"/>
                  </a:lnTo>
                  <a:lnTo>
                    <a:pt x="9053" y="6957"/>
                  </a:lnTo>
                  <a:lnTo>
                    <a:pt x="8984" y="6958"/>
                  </a:lnTo>
                  <a:lnTo>
                    <a:pt x="8916" y="6959"/>
                  </a:lnTo>
                  <a:lnTo>
                    <a:pt x="8847" y="6960"/>
                  </a:lnTo>
                  <a:lnTo>
                    <a:pt x="8779" y="6960"/>
                  </a:lnTo>
                  <a:close/>
                </a:path>
              </a:pathLst>
            </a:custGeom>
            <a:solidFill>
              <a:srgbClr val="8ead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0720" y="3784680"/>
              <a:ext cx="1793880" cy="846000"/>
            </a:xfrm>
            <a:custGeom>
              <a:avLst/>
              <a:gdLst/>
              <a:ahLst/>
              <a:rect l="l" t="t" r="r" b="b"/>
              <a:pathLst>
                <a:path w="13332" h="6294">
                  <a:moveTo>
                    <a:pt x="13332" y="2975"/>
                  </a:moveTo>
                  <a:lnTo>
                    <a:pt x="10014" y="6294"/>
                  </a:lnTo>
                  <a:lnTo>
                    <a:pt x="9881" y="6164"/>
                  </a:lnTo>
                  <a:lnTo>
                    <a:pt x="9745" y="6037"/>
                  </a:lnTo>
                  <a:lnTo>
                    <a:pt x="9607" y="5914"/>
                  </a:lnTo>
                  <a:lnTo>
                    <a:pt x="9465" y="5794"/>
                  </a:lnTo>
                  <a:lnTo>
                    <a:pt x="9320" y="5677"/>
                  </a:lnTo>
                  <a:lnTo>
                    <a:pt x="9172" y="5564"/>
                  </a:lnTo>
                  <a:lnTo>
                    <a:pt x="9023" y="5454"/>
                  </a:lnTo>
                  <a:lnTo>
                    <a:pt x="8869" y="5349"/>
                  </a:lnTo>
                  <a:lnTo>
                    <a:pt x="8715" y="5246"/>
                  </a:lnTo>
                  <a:lnTo>
                    <a:pt x="8557" y="5147"/>
                  </a:lnTo>
                  <a:lnTo>
                    <a:pt x="8395" y="5051"/>
                  </a:lnTo>
                  <a:lnTo>
                    <a:pt x="8233" y="4960"/>
                  </a:lnTo>
                  <a:lnTo>
                    <a:pt x="8067" y="4874"/>
                  </a:lnTo>
                  <a:lnTo>
                    <a:pt x="7900" y="4789"/>
                  </a:lnTo>
                  <a:lnTo>
                    <a:pt x="7729" y="4710"/>
                  </a:lnTo>
                  <a:lnTo>
                    <a:pt x="7557" y="4634"/>
                  </a:lnTo>
                  <a:lnTo>
                    <a:pt x="7383" y="4563"/>
                  </a:lnTo>
                  <a:lnTo>
                    <a:pt x="7207" y="4496"/>
                  </a:lnTo>
                  <a:lnTo>
                    <a:pt x="7028" y="4433"/>
                  </a:lnTo>
                  <a:lnTo>
                    <a:pt x="6848" y="4374"/>
                  </a:lnTo>
                  <a:lnTo>
                    <a:pt x="6666" y="4320"/>
                  </a:lnTo>
                  <a:lnTo>
                    <a:pt x="6482" y="4269"/>
                  </a:lnTo>
                  <a:lnTo>
                    <a:pt x="6296" y="4224"/>
                  </a:lnTo>
                  <a:lnTo>
                    <a:pt x="6109" y="4183"/>
                  </a:lnTo>
                  <a:lnTo>
                    <a:pt x="5919" y="4146"/>
                  </a:lnTo>
                  <a:lnTo>
                    <a:pt x="5729" y="4115"/>
                  </a:lnTo>
                  <a:lnTo>
                    <a:pt x="5536" y="4088"/>
                  </a:lnTo>
                  <a:lnTo>
                    <a:pt x="5343" y="4066"/>
                  </a:lnTo>
                  <a:lnTo>
                    <a:pt x="5148" y="4048"/>
                  </a:lnTo>
                  <a:lnTo>
                    <a:pt x="4951" y="4035"/>
                  </a:lnTo>
                  <a:lnTo>
                    <a:pt x="4754" y="4028"/>
                  </a:lnTo>
                  <a:lnTo>
                    <a:pt x="4555" y="4025"/>
                  </a:lnTo>
                  <a:lnTo>
                    <a:pt x="4396" y="4028"/>
                  </a:lnTo>
                  <a:lnTo>
                    <a:pt x="4237" y="4032"/>
                  </a:lnTo>
                  <a:lnTo>
                    <a:pt x="4080" y="4040"/>
                  </a:lnTo>
                  <a:lnTo>
                    <a:pt x="3923" y="4051"/>
                  </a:lnTo>
                  <a:lnTo>
                    <a:pt x="3767" y="4066"/>
                  </a:lnTo>
                  <a:lnTo>
                    <a:pt x="3613" y="4083"/>
                  </a:lnTo>
                  <a:lnTo>
                    <a:pt x="3458" y="4103"/>
                  </a:lnTo>
                  <a:lnTo>
                    <a:pt x="3305" y="4126"/>
                  </a:lnTo>
                  <a:lnTo>
                    <a:pt x="3153" y="4154"/>
                  </a:lnTo>
                  <a:lnTo>
                    <a:pt x="3002" y="4182"/>
                  </a:lnTo>
                  <a:lnTo>
                    <a:pt x="2852" y="4215"/>
                  </a:lnTo>
                  <a:lnTo>
                    <a:pt x="2703" y="4250"/>
                  </a:lnTo>
                  <a:lnTo>
                    <a:pt x="2556" y="4289"/>
                  </a:lnTo>
                  <a:lnTo>
                    <a:pt x="2409" y="4329"/>
                  </a:lnTo>
                  <a:lnTo>
                    <a:pt x="2263" y="4373"/>
                  </a:lnTo>
                  <a:lnTo>
                    <a:pt x="2119" y="4419"/>
                  </a:lnTo>
                  <a:lnTo>
                    <a:pt x="1975" y="4469"/>
                  </a:lnTo>
                  <a:lnTo>
                    <a:pt x="1834" y="4521"/>
                  </a:lnTo>
                  <a:lnTo>
                    <a:pt x="1693" y="4576"/>
                  </a:lnTo>
                  <a:lnTo>
                    <a:pt x="1554" y="4633"/>
                  </a:lnTo>
                  <a:lnTo>
                    <a:pt x="1417" y="4694"/>
                  </a:lnTo>
                  <a:lnTo>
                    <a:pt x="1281" y="4756"/>
                  </a:lnTo>
                  <a:lnTo>
                    <a:pt x="1146" y="4821"/>
                  </a:lnTo>
                  <a:lnTo>
                    <a:pt x="1012" y="4889"/>
                  </a:lnTo>
                  <a:lnTo>
                    <a:pt x="880" y="4959"/>
                  </a:lnTo>
                  <a:lnTo>
                    <a:pt x="750" y="5032"/>
                  </a:lnTo>
                  <a:lnTo>
                    <a:pt x="620" y="5106"/>
                  </a:lnTo>
                  <a:lnTo>
                    <a:pt x="493" y="5184"/>
                  </a:lnTo>
                  <a:lnTo>
                    <a:pt x="367" y="5263"/>
                  </a:lnTo>
                  <a:lnTo>
                    <a:pt x="243" y="5345"/>
                  </a:lnTo>
                  <a:lnTo>
                    <a:pt x="121" y="5430"/>
                  </a:lnTo>
                  <a:lnTo>
                    <a:pt x="0" y="5517"/>
                  </a:lnTo>
                  <a:lnTo>
                    <a:pt x="83" y="5223"/>
                  </a:lnTo>
                  <a:lnTo>
                    <a:pt x="177" y="4933"/>
                  </a:lnTo>
                  <a:lnTo>
                    <a:pt x="284" y="4649"/>
                  </a:lnTo>
                  <a:lnTo>
                    <a:pt x="401" y="4371"/>
                  </a:lnTo>
                  <a:lnTo>
                    <a:pt x="529" y="4098"/>
                  </a:lnTo>
                  <a:lnTo>
                    <a:pt x="669" y="3832"/>
                  </a:lnTo>
                  <a:lnTo>
                    <a:pt x="818" y="3572"/>
                  </a:lnTo>
                  <a:lnTo>
                    <a:pt x="978" y="3319"/>
                  </a:lnTo>
                  <a:lnTo>
                    <a:pt x="1147" y="3073"/>
                  </a:lnTo>
                  <a:lnTo>
                    <a:pt x="1326" y="2834"/>
                  </a:lnTo>
                  <a:lnTo>
                    <a:pt x="1515" y="2603"/>
                  </a:lnTo>
                  <a:lnTo>
                    <a:pt x="1712" y="2380"/>
                  </a:lnTo>
                  <a:lnTo>
                    <a:pt x="1918" y="2164"/>
                  </a:lnTo>
                  <a:lnTo>
                    <a:pt x="2132" y="1958"/>
                  </a:lnTo>
                  <a:lnTo>
                    <a:pt x="2355" y="1760"/>
                  </a:lnTo>
                  <a:lnTo>
                    <a:pt x="2586" y="1571"/>
                  </a:lnTo>
                  <a:lnTo>
                    <a:pt x="2825" y="1391"/>
                  </a:lnTo>
                  <a:lnTo>
                    <a:pt x="3069" y="1221"/>
                  </a:lnTo>
                  <a:lnTo>
                    <a:pt x="3323" y="1061"/>
                  </a:lnTo>
                  <a:lnTo>
                    <a:pt x="3582" y="910"/>
                  </a:lnTo>
                  <a:lnTo>
                    <a:pt x="3847" y="771"/>
                  </a:lnTo>
                  <a:lnTo>
                    <a:pt x="4119" y="641"/>
                  </a:lnTo>
                  <a:lnTo>
                    <a:pt x="4398" y="523"/>
                  </a:lnTo>
                  <a:lnTo>
                    <a:pt x="4681" y="417"/>
                  </a:lnTo>
                  <a:lnTo>
                    <a:pt x="4971" y="321"/>
                  </a:lnTo>
                  <a:lnTo>
                    <a:pt x="5265" y="238"/>
                  </a:lnTo>
                  <a:lnTo>
                    <a:pt x="5563" y="166"/>
                  </a:lnTo>
                  <a:lnTo>
                    <a:pt x="5867" y="107"/>
                  </a:lnTo>
                  <a:lnTo>
                    <a:pt x="6175" y="60"/>
                  </a:lnTo>
                  <a:lnTo>
                    <a:pt x="6486" y="27"/>
                  </a:lnTo>
                  <a:lnTo>
                    <a:pt x="6801" y="6"/>
                  </a:lnTo>
                  <a:lnTo>
                    <a:pt x="7120" y="0"/>
                  </a:lnTo>
                  <a:lnTo>
                    <a:pt x="7347" y="4"/>
                  </a:lnTo>
                  <a:lnTo>
                    <a:pt x="7571" y="15"/>
                  </a:lnTo>
                  <a:lnTo>
                    <a:pt x="7794" y="32"/>
                  </a:lnTo>
                  <a:lnTo>
                    <a:pt x="8016" y="58"/>
                  </a:lnTo>
                  <a:lnTo>
                    <a:pt x="8234" y="91"/>
                  </a:lnTo>
                  <a:lnTo>
                    <a:pt x="8451" y="129"/>
                  </a:lnTo>
                  <a:lnTo>
                    <a:pt x="8668" y="175"/>
                  </a:lnTo>
                  <a:lnTo>
                    <a:pt x="8880" y="227"/>
                  </a:lnTo>
                  <a:lnTo>
                    <a:pt x="9091" y="285"/>
                  </a:lnTo>
                  <a:lnTo>
                    <a:pt x="9301" y="350"/>
                  </a:lnTo>
                  <a:lnTo>
                    <a:pt x="9508" y="420"/>
                  </a:lnTo>
                  <a:lnTo>
                    <a:pt x="9713" y="496"/>
                  </a:lnTo>
                  <a:lnTo>
                    <a:pt x="9916" y="577"/>
                  </a:lnTo>
                  <a:lnTo>
                    <a:pt x="10117" y="663"/>
                  </a:lnTo>
                  <a:lnTo>
                    <a:pt x="10316" y="756"/>
                  </a:lnTo>
                  <a:lnTo>
                    <a:pt x="10512" y="853"/>
                  </a:lnTo>
                  <a:lnTo>
                    <a:pt x="10706" y="955"/>
                  </a:lnTo>
                  <a:lnTo>
                    <a:pt x="10898" y="1063"/>
                  </a:lnTo>
                  <a:lnTo>
                    <a:pt x="11087" y="1175"/>
                  </a:lnTo>
                  <a:lnTo>
                    <a:pt x="11275" y="1291"/>
                  </a:lnTo>
                  <a:lnTo>
                    <a:pt x="11460" y="1411"/>
                  </a:lnTo>
                  <a:lnTo>
                    <a:pt x="11642" y="1536"/>
                  </a:lnTo>
                  <a:lnTo>
                    <a:pt x="11822" y="1664"/>
                  </a:lnTo>
                  <a:lnTo>
                    <a:pt x="12000" y="1797"/>
                  </a:lnTo>
                  <a:lnTo>
                    <a:pt x="12175" y="1933"/>
                  </a:lnTo>
                  <a:lnTo>
                    <a:pt x="12349" y="2072"/>
                  </a:lnTo>
                  <a:lnTo>
                    <a:pt x="12519" y="2216"/>
                  </a:lnTo>
                  <a:lnTo>
                    <a:pt x="12687" y="2362"/>
                  </a:lnTo>
                  <a:lnTo>
                    <a:pt x="12851" y="2511"/>
                  </a:lnTo>
                  <a:lnTo>
                    <a:pt x="13015" y="2663"/>
                  </a:lnTo>
                  <a:lnTo>
                    <a:pt x="13175" y="2817"/>
                  </a:lnTo>
                  <a:lnTo>
                    <a:pt x="13332" y="2975"/>
                  </a:lnTo>
                  <a:close/>
                </a:path>
              </a:pathLst>
            </a:custGeom>
            <a:solidFill>
              <a:srgbClr val="8ead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0720" y="4916520"/>
              <a:ext cx="1347840" cy="846000"/>
            </a:xfrm>
            <a:custGeom>
              <a:avLst/>
              <a:gdLst/>
              <a:ahLst/>
              <a:rect l="l" t="t" r="r" b="b"/>
              <a:pathLst>
                <a:path w="10015" h="6292">
                  <a:moveTo>
                    <a:pt x="0" y="777"/>
                  </a:moveTo>
                  <a:lnTo>
                    <a:pt x="121" y="864"/>
                  </a:lnTo>
                  <a:lnTo>
                    <a:pt x="244" y="949"/>
                  </a:lnTo>
                  <a:lnTo>
                    <a:pt x="368" y="1031"/>
                  </a:lnTo>
                  <a:lnTo>
                    <a:pt x="493" y="1111"/>
                  </a:lnTo>
                  <a:lnTo>
                    <a:pt x="620" y="1188"/>
                  </a:lnTo>
                  <a:lnTo>
                    <a:pt x="750" y="1262"/>
                  </a:lnTo>
                  <a:lnTo>
                    <a:pt x="880" y="1336"/>
                  </a:lnTo>
                  <a:lnTo>
                    <a:pt x="1012" y="1406"/>
                  </a:lnTo>
                  <a:lnTo>
                    <a:pt x="1146" y="1473"/>
                  </a:lnTo>
                  <a:lnTo>
                    <a:pt x="1281" y="1539"/>
                  </a:lnTo>
                  <a:lnTo>
                    <a:pt x="1417" y="1601"/>
                  </a:lnTo>
                  <a:lnTo>
                    <a:pt x="1555" y="1661"/>
                  </a:lnTo>
                  <a:lnTo>
                    <a:pt x="1695" y="1718"/>
                  </a:lnTo>
                  <a:lnTo>
                    <a:pt x="1835" y="1773"/>
                  </a:lnTo>
                  <a:lnTo>
                    <a:pt x="1977" y="1825"/>
                  </a:lnTo>
                  <a:lnTo>
                    <a:pt x="2119" y="1875"/>
                  </a:lnTo>
                  <a:lnTo>
                    <a:pt x="2264" y="1921"/>
                  </a:lnTo>
                  <a:lnTo>
                    <a:pt x="2409" y="1965"/>
                  </a:lnTo>
                  <a:lnTo>
                    <a:pt x="2556" y="2005"/>
                  </a:lnTo>
                  <a:lnTo>
                    <a:pt x="2704" y="2044"/>
                  </a:lnTo>
                  <a:lnTo>
                    <a:pt x="2852" y="2079"/>
                  </a:lnTo>
                  <a:lnTo>
                    <a:pt x="3002" y="2112"/>
                  </a:lnTo>
                  <a:lnTo>
                    <a:pt x="3154" y="2141"/>
                  </a:lnTo>
                  <a:lnTo>
                    <a:pt x="3305" y="2168"/>
                  </a:lnTo>
                  <a:lnTo>
                    <a:pt x="3459" y="2191"/>
                  </a:lnTo>
                  <a:lnTo>
                    <a:pt x="3613" y="2211"/>
                  </a:lnTo>
                  <a:lnTo>
                    <a:pt x="3767" y="2229"/>
                  </a:lnTo>
                  <a:lnTo>
                    <a:pt x="3923" y="2243"/>
                  </a:lnTo>
                  <a:lnTo>
                    <a:pt x="4080" y="2254"/>
                  </a:lnTo>
                  <a:lnTo>
                    <a:pt x="4237" y="2262"/>
                  </a:lnTo>
                  <a:lnTo>
                    <a:pt x="4396" y="2266"/>
                  </a:lnTo>
                  <a:lnTo>
                    <a:pt x="4555" y="2269"/>
                  </a:lnTo>
                  <a:lnTo>
                    <a:pt x="4754" y="2266"/>
                  </a:lnTo>
                  <a:lnTo>
                    <a:pt x="4951" y="2259"/>
                  </a:lnTo>
                  <a:lnTo>
                    <a:pt x="5148" y="2246"/>
                  </a:lnTo>
                  <a:lnTo>
                    <a:pt x="5343" y="2228"/>
                  </a:lnTo>
                  <a:lnTo>
                    <a:pt x="5536" y="2206"/>
                  </a:lnTo>
                  <a:lnTo>
                    <a:pt x="5729" y="2179"/>
                  </a:lnTo>
                  <a:lnTo>
                    <a:pt x="5920" y="2148"/>
                  </a:lnTo>
                  <a:lnTo>
                    <a:pt x="6109" y="2111"/>
                  </a:lnTo>
                  <a:lnTo>
                    <a:pt x="6296" y="2070"/>
                  </a:lnTo>
                  <a:lnTo>
                    <a:pt x="6482" y="2024"/>
                  </a:lnTo>
                  <a:lnTo>
                    <a:pt x="6666" y="1974"/>
                  </a:lnTo>
                  <a:lnTo>
                    <a:pt x="6848" y="1920"/>
                  </a:lnTo>
                  <a:lnTo>
                    <a:pt x="7028" y="1861"/>
                  </a:lnTo>
                  <a:lnTo>
                    <a:pt x="7207" y="1798"/>
                  </a:lnTo>
                  <a:lnTo>
                    <a:pt x="7384" y="1731"/>
                  </a:lnTo>
                  <a:lnTo>
                    <a:pt x="7558" y="1660"/>
                  </a:lnTo>
                  <a:lnTo>
                    <a:pt x="7731" y="1584"/>
                  </a:lnTo>
                  <a:lnTo>
                    <a:pt x="7900" y="1504"/>
                  </a:lnTo>
                  <a:lnTo>
                    <a:pt x="8067" y="1420"/>
                  </a:lnTo>
                  <a:lnTo>
                    <a:pt x="8233" y="1334"/>
                  </a:lnTo>
                  <a:lnTo>
                    <a:pt x="8397" y="1241"/>
                  </a:lnTo>
                  <a:lnTo>
                    <a:pt x="8557" y="1147"/>
                  </a:lnTo>
                  <a:lnTo>
                    <a:pt x="8715" y="1048"/>
                  </a:lnTo>
                  <a:lnTo>
                    <a:pt x="8871" y="945"/>
                  </a:lnTo>
                  <a:lnTo>
                    <a:pt x="9023" y="839"/>
                  </a:lnTo>
                  <a:lnTo>
                    <a:pt x="9173" y="729"/>
                  </a:lnTo>
                  <a:lnTo>
                    <a:pt x="9320" y="616"/>
                  </a:lnTo>
                  <a:lnTo>
                    <a:pt x="9465" y="500"/>
                  </a:lnTo>
                  <a:lnTo>
                    <a:pt x="9607" y="380"/>
                  </a:lnTo>
                  <a:lnTo>
                    <a:pt x="9746" y="256"/>
                  </a:lnTo>
                  <a:lnTo>
                    <a:pt x="9882" y="130"/>
                  </a:lnTo>
                  <a:lnTo>
                    <a:pt x="10015" y="0"/>
                  </a:lnTo>
                  <a:lnTo>
                    <a:pt x="10015" y="5696"/>
                  </a:lnTo>
                  <a:lnTo>
                    <a:pt x="10014" y="5698"/>
                  </a:lnTo>
                  <a:lnTo>
                    <a:pt x="10014" y="5698"/>
                  </a:lnTo>
                  <a:lnTo>
                    <a:pt x="9929" y="5733"/>
                  </a:lnTo>
                  <a:lnTo>
                    <a:pt x="9846" y="5768"/>
                  </a:lnTo>
                  <a:lnTo>
                    <a:pt x="9762" y="5801"/>
                  </a:lnTo>
                  <a:lnTo>
                    <a:pt x="9676" y="5833"/>
                  </a:lnTo>
                  <a:lnTo>
                    <a:pt x="9590" y="5864"/>
                  </a:lnTo>
                  <a:lnTo>
                    <a:pt x="9505" y="5895"/>
                  </a:lnTo>
                  <a:lnTo>
                    <a:pt x="9418" y="5924"/>
                  </a:lnTo>
                  <a:lnTo>
                    <a:pt x="9330" y="5952"/>
                  </a:lnTo>
                  <a:lnTo>
                    <a:pt x="9244" y="5980"/>
                  </a:lnTo>
                  <a:lnTo>
                    <a:pt x="9156" y="6005"/>
                  </a:lnTo>
                  <a:lnTo>
                    <a:pt x="9067" y="6030"/>
                  </a:lnTo>
                  <a:lnTo>
                    <a:pt x="8978" y="6054"/>
                  </a:lnTo>
                  <a:lnTo>
                    <a:pt x="8889" y="6077"/>
                  </a:lnTo>
                  <a:lnTo>
                    <a:pt x="8799" y="6098"/>
                  </a:lnTo>
                  <a:lnTo>
                    <a:pt x="8709" y="6119"/>
                  </a:lnTo>
                  <a:lnTo>
                    <a:pt x="8618" y="6139"/>
                  </a:lnTo>
                  <a:lnTo>
                    <a:pt x="8527" y="6157"/>
                  </a:lnTo>
                  <a:lnTo>
                    <a:pt x="8436" y="6174"/>
                  </a:lnTo>
                  <a:lnTo>
                    <a:pt x="8344" y="6190"/>
                  </a:lnTo>
                  <a:lnTo>
                    <a:pt x="8253" y="6206"/>
                  </a:lnTo>
                  <a:lnTo>
                    <a:pt x="8160" y="6219"/>
                  </a:lnTo>
                  <a:lnTo>
                    <a:pt x="8067" y="6232"/>
                  </a:lnTo>
                  <a:lnTo>
                    <a:pt x="7974" y="6243"/>
                  </a:lnTo>
                  <a:lnTo>
                    <a:pt x="7880" y="6254"/>
                  </a:lnTo>
                  <a:lnTo>
                    <a:pt x="7786" y="6263"/>
                  </a:lnTo>
                  <a:lnTo>
                    <a:pt x="7692" y="6270"/>
                  </a:lnTo>
                  <a:lnTo>
                    <a:pt x="7598" y="6277"/>
                  </a:lnTo>
                  <a:lnTo>
                    <a:pt x="7502" y="6282"/>
                  </a:lnTo>
                  <a:lnTo>
                    <a:pt x="7408" y="6287"/>
                  </a:lnTo>
                  <a:lnTo>
                    <a:pt x="7312" y="6290"/>
                  </a:lnTo>
                  <a:lnTo>
                    <a:pt x="7216" y="6292"/>
                  </a:lnTo>
                  <a:lnTo>
                    <a:pt x="7120" y="6292"/>
                  </a:lnTo>
                  <a:lnTo>
                    <a:pt x="6801" y="6286"/>
                  </a:lnTo>
                  <a:lnTo>
                    <a:pt x="6486" y="6266"/>
                  </a:lnTo>
                  <a:lnTo>
                    <a:pt x="6175" y="6232"/>
                  </a:lnTo>
                  <a:lnTo>
                    <a:pt x="5867" y="6186"/>
                  </a:lnTo>
                  <a:lnTo>
                    <a:pt x="5563" y="6127"/>
                  </a:lnTo>
                  <a:lnTo>
                    <a:pt x="5265" y="6055"/>
                  </a:lnTo>
                  <a:lnTo>
                    <a:pt x="4971" y="5972"/>
                  </a:lnTo>
                  <a:lnTo>
                    <a:pt x="4682" y="5876"/>
                  </a:lnTo>
                  <a:lnTo>
                    <a:pt x="4398" y="5769"/>
                  </a:lnTo>
                  <a:lnTo>
                    <a:pt x="4121" y="5651"/>
                  </a:lnTo>
                  <a:lnTo>
                    <a:pt x="3848" y="5522"/>
                  </a:lnTo>
                  <a:lnTo>
                    <a:pt x="3583" y="5383"/>
                  </a:lnTo>
                  <a:lnTo>
                    <a:pt x="3323" y="5232"/>
                  </a:lnTo>
                  <a:lnTo>
                    <a:pt x="3071" y="5072"/>
                  </a:lnTo>
                  <a:lnTo>
                    <a:pt x="2825" y="4902"/>
                  </a:lnTo>
                  <a:lnTo>
                    <a:pt x="2587" y="4722"/>
                  </a:lnTo>
                  <a:lnTo>
                    <a:pt x="2356" y="4533"/>
                  </a:lnTo>
                  <a:lnTo>
                    <a:pt x="2133" y="4336"/>
                  </a:lnTo>
                  <a:lnTo>
                    <a:pt x="1918" y="4128"/>
                  </a:lnTo>
                  <a:lnTo>
                    <a:pt x="1713" y="3913"/>
                  </a:lnTo>
                  <a:lnTo>
                    <a:pt x="1516" y="3691"/>
                  </a:lnTo>
                  <a:lnTo>
                    <a:pt x="1327" y="3459"/>
                  </a:lnTo>
                  <a:lnTo>
                    <a:pt x="1148" y="3221"/>
                  </a:lnTo>
                  <a:lnTo>
                    <a:pt x="978" y="2974"/>
                  </a:lnTo>
                  <a:lnTo>
                    <a:pt x="819" y="2722"/>
                  </a:lnTo>
                  <a:lnTo>
                    <a:pt x="670" y="2462"/>
                  </a:lnTo>
                  <a:lnTo>
                    <a:pt x="530" y="2196"/>
                  </a:lnTo>
                  <a:lnTo>
                    <a:pt x="402" y="1923"/>
                  </a:lnTo>
                  <a:lnTo>
                    <a:pt x="285" y="1645"/>
                  </a:lnTo>
                  <a:lnTo>
                    <a:pt x="178" y="1361"/>
                  </a:lnTo>
                  <a:lnTo>
                    <a:pt x="84" y="1071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89a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3693960"/>
              <a:ext cx="895680" cy="936720"/>
            </a:xfrm>
            <a:custGeom>
              <a:avLst/>
              <a:gdLst/>
              <a:ahLst/>
              <a:rect l="l" t="t" r="r" b="b"/>
              <a:pathLst>
                <a:path w="6658" h="6957">
                  <a:moveTo>
                    <a:pt x="5461" y="0"/>
                  </a:moveTo>
                  <a:lnTo>
                    <a:pt x="5537" y="0"/>
                  </a:lnTo>
                  <a:lnTo>
                    <a:pt x="5611" y="1"/>
                  </a:lnTo>
                  <a:lnTo>
                    <a:pt x="5687" y="2"/>
                  </a:lnTo>
                  <a:lnTo>
                    <a:pt x="5763" y="3"/>
                  </a:lnTo>
                  <a:lnTo>
                    <a:pt x="5839" y="5"/>
                  </a:lnTo>
                  <a:lnTo>
                    <a:pt x="5913" y="9"/>
                  </a:lnTo>
                  <a:lnTo>
                    <a:pt x="5988" y="11"/>
                  </a:lnTo>
                  <a:lnTo>
                    <a:pt x="6063" y="14"/>
                  </a:lnTo>
                  <a:lnTo>
                    <a:pt x="6138" y="19"/>
                  </a:lnTo>
                  <a:lnTo>
                    <a:pt x="6213" y="23"/>
                  </a:lnTo>
                  <a:lnTo>
                    <a:pt x="6287" y="27"/>
                  </a:lnTo>
                  <a:lnTo>
                    <a:pt x="6362" y="33"/>
                  </a:lnTo>
                  <a:lnTo>
                    <a:pt x="6437" y="38"/>
                  </a:lnTo>
                  <a:lnTo>
                    <a:pt x="6510" y="44"/>
                  </a:lnTo>
                  <a:lnTo>
                    <a:pt x="6585" y="50"/>
                  </a:lnTo>
                  <a:lnTo>
                    <a:pt x="6658" y="58"/>
                  </a:lnTo>
                  <a:lnTo>
                    <a:pt x="6337" y="120"/>
                  </a:lnTo>
                  <a:lnTo>
                    <a:pt x="6019" y="194"/>
                  </a:lnTo>
                  <a:lnTo>
                    <a:pt x="5706" y="282"/>
                  </a:lnTo>
                  <a:lnTo>
                    <a:pt x="5397" y="381"/>
                  </a:lnTo>
                  <a:lnTo>
                    <a:pt x="5096" y="492"/>
                  </a:lnTo>
                  <a:lnTo>
                    <a:pt x="4798" y="614"/>
                  </a:lnTo>
                  <a:lnTo>
                    <a:pt x="4509" y="748"/>
                  </a:lnTo>
                  <a:lnTo>
                    <a:pt x="4223" y="893"/>
                  </a:lnTo>
                  <a:lnTo>
                    <a:pt x="3946" y="1049"/>
                  </a:lnTo>
                  <a:lnTo>
                    <a:pt x="3675" y="1216"/>
                  </a:lnTo>
                  <a:lnTo>
                    <a:pt x="3411" y="1391"/>
                  </a:lnTo>
                  <a:lnTo>
                    <a:pt x="3155" y="1578"/>
                  </a:lnTo>
                  <a:lnTo>
                    <a:pt x="2906" y="1774"/>
                  </a:lnTo>
                  <a:lnTo>
                    <a:pt x="2665" y="1979"/>
                  </a:lnTo>
                  <a:lnTo>
                    <a:pt x="2433" y="2193"/>
                  </a:lnTo>
                  <a:lnTo>
                    <a:pt x="2208" y="2416"/>
                  </a:lnTo>
                  <a:lnTo>
                    <a:pt x="1993" y="2648"/>
                  </a:lnTo>
                  <a:lnTo>
                    <a:pt x="1786" y="2888"/>
                  </a:lnTo>
                  <a:lnTo>
                    <a:pt x="1589" y="3136"/>
                  </a:lnTo>
                  <a:lnTo>
                    <a:pt x="1401" y="3392"/>
                  </a:lnTo>
                  <a:lnTo>
                    <a:pt x="1224" y="3654"/>
                  </a:lnTo>
                  <a:lnTo>
                    <a:pt x="1057" y="3924"/>
                  </a:lnTo>
                  <a:lnTo>
                    <a:pt x="900" y="4201"/>
                  </a:lnTo>
                  <a:lnTo>
                    <a:pt x="753" y="4485"/>
                  </a:lnTo>
                  <a:lnTo>
                    <a:pt x="618" y="4774"/>
                  </a:lnTo>
                  <a:lnTo>
                    <a:pt x="494" y="5071"/>
                  </a:lnTo>
                  <a:lnTo>
                    <a:pt x="381" y="5372"/>
                  </a:lnTo>
                  <a:lnTo>
                    <a:pt x="280" y="5678"/>
                  </a:lnTo>
                  <a:lnTo>
                    <a:pt x="191" y="5991"/>
                  </a:lnTo>
                  <a:lnTo>
                    <a:pt x="115" y="6308"/>
                  </a:lnTo>
                  <a:lnTo>
                    <a:pt x="52" y="6630"/>
                  </a:lnTo>
                  <a:lnTo>
                    <a:pt x="0" y="6957"/>
                  </a:lnTo>
                  <a:lnTo>
                    <a:pt x="0" y="1270"/>
                  </a:lnTo>
                  <a:lnTo>
                    <a:pt x="156" y="1194"/>
                  </a:lnTo>
                  <a:lnTo>
                    <a:pt x="312" y="1121"/>
                  </a:lnTo>
                  <a:lnTo>
                    <a:pt x="470" y="1050"/>
                  </a:lnTo>
                  <a:lnTo>
                    <a:pt x="629" y="981"/>
                  </a:lnTo>
                  <a:lnTo>
                    <a:pt x="788" y="915"/>
                  </a:lnTo>
                  <a:lnTo>
                    <a:pt x="949" y="850"/>
                  </a:lnTo>
                  <a:lnTo>
                    <a:pt x="1112" y="788"/>
                  </a:lnTo>
                  <a:lnTo>
                    <a:pt x="1274" y="729"/>
                  </a:lnTo>
                  <a:lnTo>
                    <a:pt x="1439" y="670"/>
                  </a:lnTo>
                  <a:lnTo>
                    <a:pt x="1603" y="614"/>
                  </a:lnTo>
                  <a:lnTo>
                    <a:pt x="1770" y="562"/>
                  </a:lnTo>
                  <a:lnTo>
                    <a:pt x="1937" y="510"/>
                  </a:lnTo>
                  <a:lnTo>
                    <a:pt x="2105" y="462"/>
                  </a:lnTo>
                  <a:lnTo>
                    <a:pt x="2275" y="416"/>
                  </a:lnTo>
                  <a:lnTo>
                    <a:pt x="2445" y="372"/>
                  </a:lnTo>
                  <a:lnTo>
                    <a:pt x="2615" y="330"/>
                  </a:lnTo>
                  <a:lnTo>
                    <a:pt x="2787" y="291"/>
                  </a:lnTo>
                  <a:lnTo>
                    <a:pt x="2959" y="253"/>
                  </a:lnTo>
                  <a:lnTo>
                    <a:pt x="3134" y="219"/>
                  </a:lnTo>
                  <a:lnTo>
                    <a:pt x="3308" y="188"/>
                  </a:lnTo>
                  <a:lnTo>
                    <a:pt x="3483" y="158"/>
                  </a:lnTo>
                  <a:lnTo>
                    <a:pt x="3659" y="131"/>
                  </a:lnTo>
                  <a:lnTo>
                    <a:pt x="3836" y="106"/>
                  </a:lnTo>
                  <a:lnTo>
                    <a:pt x="4014" y="84"/>
                  </a:lnTo>
                  <a:lnTo>
                    <a:pt x="4193" y="65"/>
                  </a:lnTo>
                  <a:lnTo>
                    <a:pt x="4372" y="47"/>
                  </a:lnTo>
                  <a:lnTo>
                    <a:pt x="4551" y="33"/>
                  </a:lnTo>
                  <a:lnTo>
                    <a:pt x="4731" y="21"/>
                  </a:lnTo>
                  <a:lnTo>
                    <a:pt x="4912" y="12"/>
                  </a:lnTo>
                  <a:lnTo>
                    <a:pt x="5095" y="5"/>
                  </a:lnTo>
                  <a:lnTo>
                    <a:pt x="5278" y="1"/>
                  </a:lnTo>
                  <a:lnTo>
                    <a:pt x="5461" y="0"/>
                  </a:lnTo>
                  <a:close/>
                </a:path>
              </a:pathLst>
            </a:custGeom>
            <a:solidFill>
              <a:srgbClr val="89a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61868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618240"/>
            <a:ext cx="9144000" cy="1800"/>
          </a:xfrm>
          <a:prstGeom prst="line">
            <a:avLst/>
          </a:prstGeom>
          <a:ln w="28440">
            <a:solidFill>
              <a:srgbClr val="4e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3"/>
          </p:nvPr>
        </p:nvSpPr>
        <p:spPr>
          <a:xfrm>
            <a:off x="0" y="6614640"/>
            <a:ext cx="9142560" cy="244440"/>
          </a:xfrm>
          <a:prstGeom prst="rect">
            <a:avLst/>
          </a:prstGeom>
          <a:solidFill>
            <a:srgbClr val="00646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5076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95076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375"/>
              </a:spcAft>
              <a:buClr>
                <a:srgbClr val="000000"/>
              </a:buClr>
              <a:buFont typeface="Verdana"/>
              <a:buChar char="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375"/>
              </a:spcAft>
              <a:buClr>
                <a:srgbClr val="000000"/>
              </a:buClr>
              <a:buFont typeface="Verdana"/>
              <a:buChar char="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./schemas/tiss200608v2_0.xsd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a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2101680"/>
            <a:ext cx="762012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079640" y="3419640"/>
            <a:ext cx="76197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Interligando Aplicativos TIS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480" y="110880"/>
            <a:ext cx="8839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Cenários de Us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5880" y="1619280"/>
            <a:ext cx="8124840" cy="2724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4803840"/>
            <a:ext cx="8718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Prestador x Operadora Comunicando-se Diretamente via Transmissão Ponto a Ponto TISSN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966A-9B7E-481F-A8AD-9C82A1AED746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480" y="110880"/>
            <a:ext cx="8839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Cenários de Us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0960" y="1440000"/>
            <a:ext cx="8609040" cy="3057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4680000"/>
            <a:ext cx="8958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Prestador x Operadora Comunicando-se Diretamente via Transmissão com “Web Service” em L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D9C2-8B58-44B9-BA5A-B75052AEA592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480" y="110880"/>
            <a:ext cx="8839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Cenários de Us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8788680" cy="3236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4859280"/>
            <a:ext cx="865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Prestador x Operadora Comunicando-se Diretamente com “Web Service” Interativo Padronizado TIS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A5C4-6E37-4F63-8C3A-6EF92721FD0B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Modelo de Referê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26000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333333"/>
                </a:solidFill>
                <a:uFillTx/>
                <a:latin typeface="Verdana"/>
              </a:rPr>
              <a:t>A comunicação ponto a ponto NÃO É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de adoção obrigatória e </a:t>
            </a:r>
            <a:r>
              <a:rPr b="1" lang="en-GB" sz="2200" spc="-1" strike="noStrike" u="sng">
                <a:solidFill>
                  <a:srgbClr val="333333"/>
                </a:solidFill>
                <a:uFillTx/>
                <a:latin typeface="Verdana"/>
              </a:rPr>
              <a:t>NÃO É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um padrão de comunicação definido. </a:t>
            </a:r>
            <a:r>
              <a:rPr b="1" lang="en-GB" sz="2200" spc="-1" strike="noStrike" u="sng">
                <a:solidFill>
                  <a:srgbClr val="333333"/>
                </a:solidFill>
                <a:uFillTx/>
                <a:latin typeface="Verdana"/>
              </a:rPr>
              <a:t>É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uma oferta pública de sugestão de caminho a seguir para comunicação não transacional e </a:t>
            </a:r>
            <a:r>
              <a:rPr b="1" lang="en-GB" sz="2200" spc="-1" strike="noStrike" u="sng">
                <a:solidFill>
                  <a:srgbClr val="333333"/>
                </a:solidFill>
                <a:uFillTx/>
                <a:latin typeface="Verdana"/>
              </a:rPr>
              <a:t>PRETENDE SER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uma oferta da </a:t>
            </a: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ANS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ao mercado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Os “web services”, se usados, </a:t>
            </a: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têm que seguir o padrão definido no COPISS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333333"/>
                </a:solidFill>
                <a:uFillTx/>
                <a:latin typeface="Verdana"/>
              </a:rPr>
              <a:t>Os </a:t>
            </a:r>
            <a:r>
              <a:rPr b="1" lang="en-GB" sz="2200" spc="-1" strike="noStrike" u="sng">
                <a:solidFill>
                  <a:srgbClr val="333333"/>
                </a:solidFill>
                <a:uFillTx/>
                <a:latin typeface="Verdana"/>
              </a:rPr>
              <a:t>“Web Services”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têm que aderir aos WSDL's padrão do TIS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Operadoras e prestadores </a:t>
            </a: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NÃO PODEM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definir “web services” isoladamente, sem aprovação do COPIS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7FD7-4A51-46DE-932A-247E7149E79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Modelo de Referê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55440" y="5759280"/>
            <a:ext cx="894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Ponto a ponto é baseado no conceito de caixa de entrada/ caixa de saíd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87320" y="1079640"/>
            <a:ext cx="7853400" cy="5310000"/>
            <a:chOff x="787320" y="1079640"/>
            <a:chExt cx="7853400" cy="5310000"/>
          </a:xfrm>
        </p:grpSpPr>
        <p:sp>
          <p:nvSpPr>
            <p:cNvPr id="157" name=""/>
            <p:cNvSpPr/>
            <p:nvPr/>
          </p:nvSpPr>
          <p:spPr>
            <a:xfrm>
              <a:off x="1627200" y="271620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7320" y="120348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26080" y="271620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59600" y="107964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41760" y="1222200"/>
              <a:ext cx="1800" cy="516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49800" y="1760400"/>
              <a:ext cx="2392200" cy="833400"/>
            </a:xfrm>
            <a:prstGeom prst="leftRightArrow">
              <a:avLst>
                <a:gd name="adj1" fmla="val 50000"/>
                <a:gd name="adj2" fmla="val 57142"/>
              </a:avLst>
            </a:prstGeom>
            <a:solidFill>
              <a:srgbClr val="804c1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nto a pon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0280" y="4556160"/>
              <a:ext cx="236988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Consumi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73840" y="4584600"/>
              <a:ext cx="237024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rove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480" y="4522680"/>
              <a:ext cx="2441520" cy="959040"/>
            </a:xfrm>
            <a:custGeom>
              <a:avLst/>
              <a:gdLst>
                <a:gd name="textAreaLeft" fmla="*/ 610200 w 2441520"/>
                <a:gd name="textAreaRight" fmla="*/ 1831320 w 24415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95920" y="4056120"/>
              <a:ext cx="316080" cy="333360"/>
            </a:xfrm>
            <a:prstGeom prst="upArrow">
              <a:avLst>
                <a:gd name="adj1" fmla="val 50000"/>
                <a:gd name="adj2" fmla="val 263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6480" y="2722680"/>
              <a:ext cx="474480" cy="1666800"/>
            </a:xfrm>
            <a:prstGeom prst="downArrow">
              <a:avLst>
                <a:gd name="adj1" fmla="val 50000"/>
                <a:gd name="adj2" fmla="val 8782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88B1-A465-45C3-BD84-FB120903AB75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87320" y="1079640"/>
            <a:ext cx="7853400" cy="5310000"/>
            <a:chOff x="787320" y="1079640"/>
            <a:chExt cx="7853400" cy="5310000"/>
          </a:xfrm>
        </p:grpSpPr>
        <p:sp>
          <p:nvSpPr>
            <p:cNvPr id="169" name=""/>
            <p:cNvSpPr/>
            <p:nvPr/>
          </p:nvSpPr>
          <p:spPr>
            <a:xfrm>
              <a:off x="1627200" y="271620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7320" y="120348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26080" y="271620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59600" y="107964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41760" y="1222200"/>
              <a:ext cx="1800" cy="516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49800" y="1760400"/>
              <a:ext cx="2392200" cy="833400"/>
            </a:xfrm>
            <a:prstGeom prst="leftRightArrow">
              <a:avLst>
                <a:gd name="adj1" fmla="val 50000"/>
                <a:gd name="adj2" fmla="val 57142"/>
              </a:avLst>
            </a:prstGeom>
            <a:solidFill>
              <a:srgbClr val="804c1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nto a pon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280" y="4556160"/>
              <a:ext cx="236988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Consumi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73840" y="4584600"/>
              <a:ext cx="237024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rove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00480" y="4522680"/>
              <a:ext cx="2441520" cy="959040"/>
            </a:xfrm>
            <a:custGeom>
              <a:avLst/>
              <a:gdLst>
                <a:gd name="textAreaLeft" fmla="*/ 610200 w 2441520"/>
                <a:gd name="textAreaRight" fmla="*/ 1831320 w 24415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95920" y="4056120"/>
              <a:ext cx="316080" cy="333360"/>
            </a:xfrm>
            <a:prstGeom prst="upArrow">
              <a:avLst>
                <a:gd name="adj1" fmla="val 50000"/>
                <a:gd name="adj2" fmla="val 263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6480" y="2722680"/>
              <a:ext cx="474480" cy="1666800"/>
            </a:xfrm>
            <a:prstGeom prst="downArrow">
              <a:avLst>
                <a:gd name="adj1" fmla="val 50000"/>
                <a:gd name="adj2" fmla="val 8782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Modelo de Referê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20600" y="3726000"/>
            <a:ext cx="4694400" cy="2566800"/>
          </a:xfrm>
          <a:prstGeom prst="wedgeRoundRectCallout">
            <a:avLst>
              <a:gd name="adj1" fmla="val 43824"/>
              <a:gd name="adj2" fmla="val -93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COMUNICAÇÃ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Protocolo de amplo uso (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TCP/IP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Rede pública de amplo uso (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INTERNET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uporte a “proxy servers”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uporte a SSL (opcional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Identificação por certificado (opcional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Detecção automática de SS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“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Fallback” automát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Opção por “sockets” ou “web service”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F265-05EF-4B24-A6F5-B27CC0338757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787320" y="1079640"/>
            <a:ext cx="7853400" cy="5310000"/>
            <a:chOff x="787320" y="1079640"/>
            <a:chExt cx="7853400" cy="5310000"/>
          </a:xfrm>
        </p:grpSpPr>
        <p:sp>
          <p:nvSpPr>
            <p:cNvPr id="183" name=""/>
            <p:cNvSpPr/>
            <p:nvPr/>
          </p:nvSpPr>
          <p:spPr>
            <a:xfrm>
              <a:off x="1627200" y="271620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7320" y="120348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26080" y="271620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9600" y="107964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41760" y="1222200"/>
              <a:ext cx="1800" cy="516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9800" y="1760400"/>
              <a:ext cx="2392200" cy="833400"/>
            </a:xfrm>
            <a:prstGeom prst="leftRightArrow">
              <a:avLst>
                <a:gd name="adj1" fmla="val 50000"/>
                <a:gd name="adj2" fmla="val 57142"/>
              </a:avLst>
            </a:prstGeom>
            <a:solidFill>
              <a:srgbClr val="804c1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nto a pon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0280" y="4556160"/>
              <a:ext cx="236988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Consumi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4584600"/>
              <a:ext cx="237024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rove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00480" y="4522680"/>
              <a:ext cx="2441520" cy="959040"/>
            </a:xfrm>
            <a:custGeom>
              <a:avLst/>
              <a:gdLst>
                <a:gd name="textAreaLeft" fmla="*/ 610200 w 2441520"/>
                <a:gd name="textAreaRight" fmla="*/ 1831320 w 24415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95920" y="4056120"/>
              <a:ext cx="316080" cy="333360"/>
            </a:xfrm>
            <a:prstGeom prst="upArrow">
              <a:avLst>
                <a:gd name="adj1" fmla="val 50000"/>
                <a:gd name="adj2" fmla="val 263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06480" y="2722680"/>
              <a:ext cx="474480" cy="1666800"/>
            </a:xfrm>
            <a:prstGeom prst="downArrow">
              <a:avLst>
                <a:gd name="adj1" fmla="val 50000"/>
                <a:gd name="adj2" fmla="val 8782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Modelo de Referê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5213520" y="4067280"/>
            <a:ext cx="3665520" cy="2025720"/>
          </a:xfrm>
          <a:prstGeom prst="wedgeRoundRectCallout">
            <a:avLst>
              <a:gd name="adj1" fmla="val -70935"/>
              <a:gd name="adj2" fmla="val -1308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COMUNICAÇÃO / “FALL BACK” NO USO DIRETO DE SOQUET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SL via prox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SL diretament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berta via prox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berta diretament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Falh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C5C2-CC57-42D6-A096-CE9EBD8C0A1E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787320" y="1079640"/>
            <a:ext cx="7853400" cy="5310000"/>
            <a:chOff x="787320" y="1079640"/>
            <a:chExt cx="7853400" cy="5310000"/>
          </a:xfrm>
        </p:grpSpPr>
        <p:sp>
          <p:nvSpPr>
            <p:cNvPr id="197" name=""/>
            <p:cNvSpPr/>
            <p:nvPr/>
          </p:nvSpPr>
          <p:spPr>
            <a:xfrm>
              <a:off x="1627200" y="271620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7320" y="120348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26080" y="271620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59600" y="107964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41760" y="1222200"/>
              <a:ext cx="1800" cy="516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49800" y="1760400"/>
              <a:ext cx="2392200" cy="833400"/>
            </a:xfrm>
            <a:prstGeom prst="leftRightArrow">
              <a:avLst>
                <a:gd name="adj1" fmla="val 50000"/>
                <a:gd name="adj2" fmla="val 57142"/>
              </a:avLst>
            </a:prstGeom>
            <a:solidFill>
              <a:srgbClr val="804c1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nto a pon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280" y="4556160"/>
              <a:ext cx="236988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Consumi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73840" y="4584600"/>
              <a:ext cx="237024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rove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00480" y="4522680"/>
              <a:ext cx="2441520" cy="959040"/>
            </a:xfrm>
            <a:custGeom>
              <a:avLst/>
              <a:gdLst>
                <a:gd name="textAreaLeft" fmla="*/ 610200 w 2441520"/>
                <a:gd name="textAreaRight" fmla="*/ 1831320 w 24415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95920" y="4056120"/>
              <a:ext cx="316080" cy="333360"/>
            </a:xfrm>
            <a:prstGeom prst="upArrow">
              <a:avLst>
                <a:gd name="adj1" fmla="val 50000"/>
                <a:gd name="adj2" fmla="val 263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06480" y="2722680"/>
              <a:ext cx="474480" cy="1666800"/>
            </a:xfrm>
            <a:prstGeom prst="downArrow">
              <a:avLst>
                <a:gd name="adj1" fmla="val 50000"/>
                <a:gd name="adj2" fmla="val 8782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Modelo de Referê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73080" y="2768760"/>
            <a:ext cx="4500360" cy="3525840"/>
          </a:xfrm>
          <a:prstGeom prst="wedgeRoundRectCallout">
            <a:avLst>
              <a:gd name="adj1" fmla="val 77125"/>
              <a:gd name="adj2" fmla="val -33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FILAS DE RECEPÇÃO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Ordenadas por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data de recepção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, 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destinatário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,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remetente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e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sequencial de transação TISS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uportam, assim, </a:t>
            </a:r>
            <a:r>
              <a:rPr b="1" lang="en-GB" sz="1400" spc="-1" strike="noStrike" u="sng">
                <a:solidFill>
                  <a:srgbClr val="333333"/>
                </a:solidFill>
                <a:uFillTx/>
                <a:latin typeface="Verdana"/>
              </a:rPr>
              <a:t>prestadores de serviços que atuem em nome de vários destinatários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Permitem processamento das mensagens em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ordem de sequencial de transação TISS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ACD4-AAF0-4B4F-859F-D2D1B5DCFBA3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787320" y="1079640"/>
            <a:ext cx="7853400" cy="5310000"/>
            <a:chOff x="787320" y="1079640"/>
            <a:chExt cx="7853400" cy="5310000"/>
          </a:xfrm>
        </p:grpSpPr>
        <p:sp>
          <p:nvSpPr>
            <p:cNvPr id="211" name=""/>
            <p:cNvSpPr/>
            <p:nvPr/>
          </p:nvSpPr>
          <p:spPr>
            <a:xfrm>
              <a:off x="1627200" y="271620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7320" y="120348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26080" y="271620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59600" y="107964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41760" y="1222200"/>
              <a:ext cx="1800" cy="516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49800" y="1760400"/>
              <a:ext cx="2392200" cy="833400"/>
            </a:xfrm>
            <a:prstGeom prst="leftRightArrow">
              <a:avLst>
                <a:gd name="adj1" fmla="val 50000"/>
                <a:gd name="adj2" fmla="val 57142"/>
              </a:avLst>
            </a:prstGeom>
            <a:solidFill>
              <a:srgbClr val="804c1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nto a pon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0280" y="4556160"/>
              <a:ext cx="236988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Consumi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3840" y="4584600"/>
              <a:ext cx="237024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rove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00480" y="4522680"/>
              <a:ext cx="2441520" cy="959040"/>
            </a:xfrm>
            <a:custGeom>
              <a:avLst/>
              <a:gdLst>
                <a:gd name="textAreaLeft" fmla="*/ 610200 w 2441520"/>
                <a:gd name="textAreaRight" fmla="*/ 1831320 w 24415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95920" y="4056120"/>
              <a:ext cx="316080" cy="333360"/>
            </a:xfrm>
            <a:prstGeom prst="upArrow">
              <a:avLst>
                <a:gd name="adj1" fmla="val 50000"/>
                <a:gd name="adj2" fmla="val 263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06480" y="2722680"/>
              <a:ext cx="474480" cy="1666800"/>
            </a:xfrm>
            <a:prstGeom prst="downArrow">
              <a:avLst>
                <a:gd name="adj1" fmla="val 50000"/>
                <a:gd name="adj2" fmla="val 8782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Modelo de Referê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3419640"/>
            <a:ext cx="4860720" cy="2879640"/>
          </a:xfrm>
          <a:prstGeom prst="wedgeRoundRectCallout">
            <a:avLst>
              <a:gd name="adj1" fmla="val -97291"/>
              <a:gd name="adj2" fmla="val -1014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FILA DE TRANSMISSÃO DO PRESTADOR: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dministrada pelo aplicativo (prestador pode ser usuário leigo em informática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rquivos podem estar em qualquer pasta –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não se exige uma organização de diretórios padrão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plicativo monta a fila através de operações simples e intuitivas, tipo “arrastar e soltar”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A0F1-F6CB-42C9-8048-2EF5C53D054A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787320" y="1079640"/>
            <a:ext cx="7853400" cy="5310000"/>
            <a:chOff x="787320" y="1079640"/>
            <a:chExt cx="7853400" cy="5310000"/>
          </a:xfrm>
        </p:grpSpPr>
        <p:sp>
          <p:nvSpPr>
            <p:cNvPr id="225" name=""/>
            <p:cNvSpPr/>
            <p:nvPr/>
          </p:nvSpPr>
          <p:spPr>
            <a:xfrm>
              <a:off x="1627200" y="271620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7320" y="120348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26080" y="271620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59600" y="107964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41760" y="1222200"/>
              <a:ext cx="1800" cy="516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49800" y="1760400"/>
              <a:ext cx="2392200" cy="833400"/>
            </a:xfrm>
            <a:prstGeom prst="leftRightArrow">
              <a:avLst>
                <a:gd name="adj1" fmla="val 50000"/>
                <a:gd name="adj2" fmla="val 57142"/>
              </a:avLst>
            </a:prstGeom>
            <a:solidFill>
              <a:srgbClr val="804c1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nto a pon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280" y="4556160"/>
              <a:ext cx="236988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Consumi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73840" y="4584600"/>
              <a:ext cx="237024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rove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00480" y="4522680"/>
              <a:ext cx="2441520" cy="959040"/>
            </a:xfrm>
            <a:custGeom>
              <a:avLst/>
              <a:gdLst>
                <a:gd name="textAreaLeft" fmla="*/ 610200 w 2441520"/>
                <a:gd name="textAreaRight" fmla="*/ 1831320 w 24415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95920" y="4056120"/>
              <a:ext cx="316080" cy="333360"/>
            </a:xfrm>
            <a:prstGeom prst="upArrow">
              <a:avLst>
                <a:gd name="adj1" fmla="val 50000"/>
                <a:gd name="adj2" fmla="val 263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6480" y="2722680"/>
              <a:ext cx="474480" cy="1666800"/>
            </a:xfrm>
            <a:prstGeom prst="downArrow">
              <a:avLst>
                <a:gd name="adj1" fmla="val 50000"/>
                <a:gd name="adj2" fmla="val 8782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Modelo de Referê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227160" y="3205080"/>
            <a:ext cx="4632120" cy="2914560"/>
          </a:xfrm>
          <a:prstGeom prst="wedgeRoundRectCallout">
            <a:avLst>
              <a:gd name="adj1" fmla="val 102370"/>
              <a:gd name="adj2" fmla="val -902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FILA DE TRANSMISSÃO DA OPERADORA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Organizada em pastas cujos nomes são os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códigos dos prestadores na operadora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Não é preciso ordenar os arquivos por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sequencial de transação TISS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Nomes dos arquivos contendo as mensagens podem ser quaisquer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plicativo limpa a fila após transmissão bem sucedida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37DD-11ED-4D12-9A1F-38CF52020A6D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480" y="111240"/>
            <a:ext cx="8839080" cy="915840"/>
          </a:xfrm>
          <a:prstGeom prst="rect">
            <a:avLst/>
          </a:prstGeom>
          <a:solidFill>
            <a:srgbClr val="80a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Conteúd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TISS e TISSNet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Origens do TISSNet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Requisitos do Padrão TISSNet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Cenários de Uso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Modelo de Referência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Implementação do Padrão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Direções Futura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Interoperabilidade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53F4-6D74-49DA-AC1B-E90D894E483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787320" y="1079640"/>
            <a:ext cx="7853400" cy="5310000"/>
            <a:chOff x="787320" y="1079640"/>
            <a:chExt cx="7853400" cy="5310000"/>
          </a:xfrm>
        </p:grpSpPr>
        <p:sp>
          <p:nvSpPr>
            <p:cNvPr id="239" name=""/>
            <p:cNvSpPr/>
            <p:nvPr/>
          </p:nvSpPr>
          <p:spPr>
            <a:xfrm>
              <a:off x="1627200" y="271620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7320" y="1203480"/>
              <a:ext cx="1581120" cy="13334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perado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6080" y="271620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D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59600" y="1079640"/>
              <a:ext cx="1581120" cy="133344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ar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prestad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41760" y="1222200"/>
              <a:ext cx="1800" cy="516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49800" y="1760400"/>
              <a:ext cx="2392200" cy="833400"/>
            </a:xfrm>
            <a:prstGeom prst="leftRightArrow">
              <a:avLst>
                <a:gd name="adj1" fmla="val 50000"/>
                <a:gd name="adj2" fmla="val 57142"/>
              </a:avLst>
            </a:prstGeom>
            <a:solidFill>
              <a:srgbClr val="804c1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nto a pon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280" y="4556160"/>
              <a:ext cx="236988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Consumi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73840" y="4584600"/>
              <a:ext cx="2370240" cy="833400"/>
            </a:xfrm>
            <a:prstGeom prst="flowChartProcess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rovedor d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”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0480" y="4522680"/>
              <a:ext cx="2441520" cy="959040"/>
            </a:xfrm>
            <a:custGeom>
              <a:avLst/>
              <a:gdLst>
                <a:gd name="textAreaLeft" fmla="*/ 610200 w 2441520"/>
                <a:gd name="textAreaRight" fmla="*/ 1831320 w 24415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95920" y="4056120"/>
              <a:ext cx="316080" cy="333360"/>
            </a:xfrm>
            <a:prstGeom prst="upArrow">
              <a:avLst>
                <a:gd name="adj1" fmla="val 50000"/>
                <a:gd name="adj2" fmla="val 263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6480" y="2722680"/>
              <a:ext cx="474480" cy="1666800"/>
            </a:xfrm>
            <a:prstGeom prst="downArrow">
              <a:avLst>
                <a:gd name="adj1" fmla="val 50000"/>
                <a:gd name="adj2" fmla="val 8782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Modelo de Referê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1335240" y="2371680"/>
            <a:ext cx="7407000" cy="2033640"/>
          </a:xfrm>
          <a:prstGeom prst="wedgeRoundRectCallout">
            <a:avLst>
              <a:gd name="adj1" fmla="val -22370"/>
              <a:gd name="adj2" fmla="val -503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COMPONENTE DE COMUNICAÇÃO: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Pode ser encapsulado e distribuído como um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ActiveX Server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em plataforma WINDOW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Pode prescindir de interfaces visuais, sendo manipulado programaticament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Pode executar em ambientes WINDOWS, UNIX e Ma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Pode ser um “web service client”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1B18-37E7-49D9-9954-D0D453E6B473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Modelo de Referê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20720" y="1979640"/>
          <a:ext cx="7493040" cy="19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979640"/>
                    <a:ext cx="749304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519280" y="1341360"/>
            <a:ext cx="404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Web Services” Defini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0720" y="4319640"/>
            <a:ext cx="2470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(*) a partir da versão 3.5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B9E3-39BC-491F-81F0-DA851ACCDDC2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280" y="1260000"/>
            <a:ext cx="84582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Versão WINDOWS + Versão UNIX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Versão única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arte do aplicativo TIS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Aplicativo independente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Sem 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4DDF-C644-4C40-8A49-4CEB926634A9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1802880"/>
            <a:ext cx="84582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Versão WINDOWS + Versão UNIX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Versão única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arte do aplicativo TIS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Aplicativo independente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Sem 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81600" y="2225520"/>
            <a:ext cx="3960720" cy="1914840"/>
          </a:xfrm>
          <a:prstGeom prst="wedgeRoundRectCallout">
            <a:avLst>
              <a:gd name="adj1" fmla="val -90375"/>
              <a:gd name="adj2" fmla="val -492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Simplicidade de Manutençã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Eficiência em cada Plataform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FE5F-E32B-4A1F-BD7C-10C4577C71D8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802880"/>
            <a:ext cx="84582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Versão WINDOWS + Versão UNIX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b613d"/>
                </a:solidFill>
                <a:latin typeface="Verdana"/>
              </a:rPr>
              <a:t>Versão única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arte do aplicativo TIS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Aplicativo independente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Sem 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C553-C52A-4C69-8D2A-F8609E593705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1802880"/>
            <a:ext cx="84582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Versão WINDOWS + Versão UNIX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6633"/>
                </a:solidFill>
                <a:latin typeface="Verdana"/>
              </a:rPr>
              <a:t>Versão única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arte do aplicativo TIS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Aplicativo independente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Sem 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5438880" y="2300400"/>
            <a:ext cx="3400200" cy="2516040"/>
          </a:xfrm>
          <a:prstGeom prst="wedgeRoundRectCallout">
            <a:avLst>
              <a:gd name="adj1" fmla="val -97458"/>
              <a:gd name="adj2" fmla="val -11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Simplicidade de Instalaçã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Flexibilidade de Uso e Acoplamento a Aplicativos de Terceir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4A5D-126F-48C6-B40E-A34BD8A4741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4600" y="1804680"/>
            <a:ext cx="84582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Versão WINDOWS + Versão UNIX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b613d"/>
                </a:solidFill>
                <a:latin typeface="Verdana"/>
              </a:rPr>
              <a:t>Versão única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arte do aplicativo TIS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b613d"/>
                </a:solidFill>
                <a:latin typeface="Verdana"/>
              </a:rPr>
              <a:t>Aplicativo independente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Sem 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3A5C-D284-4A61-9216-78DA2439FCA6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802880"/>
            <a:ext cx="84582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Versão WINDOWS + Versão UNIX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6633"/>
                </a:solidFill>
                <a:latin typeface="Verdana"/>
              </a:rPr>
              <a:t>Versão única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arte do aplicativo TIS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6633"/>
                </a:solidFill>
                <a:latin typeface="Verdana"/>
              </a:rPr>
              <a:t>Aplicativo independente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2300dc"/>
                </a:solidFill>
                <a:latin typeface="Verdana"/>
              </a:rPr>
              <a:t>Sem 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257560"/>
            <a:ext cx="3165480" cy="2155680"/>
          </a:xfrm>
          <a:prstGeom prst="wedgeRoundRectCallout">
            <a:avLst>
              <a:gd name="adj1" fmla="val -103148"/>
              <a:gd name="adj2" fmla="val 434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Facilidade de Operaçã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Integração a aplicativos de terceiros + controle programátic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0A79-54FE-43AB-A13D-517DBF5B6C76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804680"/>
            <a:ext cx="84582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Versão WINDOWS + Versão UNIX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b613d"/>
                </a:solidFill>
                <a:latin typeface="Verdana"/>
              </a:rPr>
              <a:t>Versão única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arte do aplicativo TIS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b613d"/>
                </a:solidFill>
                <a:latin typeface="Verdana"/>
              </a:rPr>
              <a:t>Aplicativo independente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b613d"/>
                </a:solidFill>
                <a:latin typeface="Verdana"/>
              </a:rPr>
              <a:t>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b613d"/>
                </a:solidFill>
                <a:latin typeface="Verdana"/>
              </a:rPr>
              <a:t>Sem interface visu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0C2D-4C85-492F-B3DD-D0DCF789AA39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Aplicativo escrito em JAVA (JDK 1.5) =&gt; uma única versão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Objeto JAVA pode ser encapsulado como um servidor ActiveX para plataforma WINDOW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Aplicativo independente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Oferecendo interface visual programada com JAVA SWING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Oferecendo objeto manipulável programaticamente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Interface visual apenas manipula o objeto programático, imitando um programa de terceiro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E6E8-DA93-4B67-A38E-C85C63FA4766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 e TISSNe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Ambos são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adrões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, não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rogramas produto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Os aplicativos construídos são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implementações de referência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, não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“software de prateleira”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Será livre o uso do código fonte das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implementações de referência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produzida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TISS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-&gt; define as transações (os eventos geradores de mensagens), o padrão geral das mensagens, o conteúdo e o formato destas mensagen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TISSNet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-&gt; define o padrão de troca de mensagens entre emissor e destinatário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A1DE-48A2-464A-B064-0B380469871C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Prevê suporte a transações “on line” via “web services” =&gt; isto está em discussão no COPIS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Atende aos requisitos de proteção ao tráfego de informação mesmo quando se usa canal TCP “aberto” (sem SSL)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Extensível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Multiplataforma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6A08-5C68-4E51-8628-818E81643482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882036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09A8-2027-4101-940F-F696BD13D431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8820360" cy="50403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4773600" y="1293840"/>
            <a:ext cx="4191120" cy="2125800"/>
          </a:xfrm>
          <a:prstGeom prst="wedgeRoundRectCallout">
            <a:avLst>
              <a:gd name="adj1" fmla="val -112592"/>
              <a:gd name="adj2" fmla="val 123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s mensagens são tratadas por um agente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DOM (“Document Object Model”)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, mas isto não faz parte do padrão – qualquer tratamento de XML é apropriad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O agente valida as mensagens contra o esquema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XSD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do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TIS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B8F2-291B-426A-8D75-C095EECD8236}" type="slidenum">
              <a:t>32</a:t>
            </a:fld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8820360" cy="5040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2879640" y="4140360"/>
            <a:ext cx="3822840" cy="981000"/>
          </a:xfrm>
          <a:prstGeom prst="wedgeRoundRectCallout">
            <a:avLst>
              <a:gd name="adj1" fmla="val 30759"/>
              <a:gd name="adj2" fmla="val -180481"/>
              <a:gd name="adj3" fmla="val 16667"/>
            </a:avLst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ClienteFuncional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e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Servidor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são os objetos que oferecem acesso programático à aplicação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400" y="5656320"/>
            <a:ext cx="2631960" cy="658800"/>
          </a:xfrm>
          <a:prstGeom prst="wedgeRoundRectCallout">
            <a:avLst>
              <a:gd name="adj1" fmla="val -25699"/>
              <a:gd name="adj2" fmla="val -596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Objeto principal (visual) da ponta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prestador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23040" y="5621400"/>
            <a:ext cx="2890800" cy="658800"/>
          </a:xfrm>
          <a:prstGeom prst="wedgeRoundRectCallout">
            <a:avLst>
              <a:gd name="adj1" fmla="val 27000"/>
              <a:gd name="adj2" fmla="val -58711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Objeto principal da ponta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operadora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06640" y="2467080"/>
            <a:ext cx="2631960" cy="658800"/>
          </a:xfrm>
          <a:prstGeom prst="wedgeRoundRectCallout">
            <a:avLst>
              <a:gd name="adj1" fmla="val 57111"/>
              <a:gd name="adj2" fmla="val -14836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uporte a “web services”, cliente e servidor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366C-D4C8-45EB-8593-18F251A8EDE8}" type="slidenum">
              <a:t>33</a:t>
            </a:fld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8820360" cy="5040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216000" y="1136520"/>
            <a:ext cx="3384360" cy="5162760"/>
          </a:xfrm>
          <a:prstGeom prst="wedgeRoundRectCallout">
            <a:avLst>
              <a:gd name="adj1" fmla="val 71546"/>
              <a:gd name="adj2" fmla="val 16583"/>
              <a:gd name="adj3" fmla="val 16667"/>
            </a:avLst>
          </a:prstGeom>
          <a:solidFill>
            <a:srgbClr val="e6e64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Todas as mensagens fluem criptografadas pelo método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RIJNDAEL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(novo padrão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AES - “Advanced Encryption Standard”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Há abertura para construção de outros agentes criptográfic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 criptografia acontece mesmo quando se opera em canal abert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 chave inicial é derivada de uma raíz transmitida pela rede e formada pelo nodo operadora a cada sessão de comunicação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 chave real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nunca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é transmitida pela rede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 chave real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muda a cada mensagem trocada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=&gt; se um intruso perde uma mensagem, perde toda a comunicação daí para a frente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91E0-9988-494C-ABF1-531CA6950724}" type="slidenum">
              <a:t>34</a:t>
            </a:fld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8820360" cy="50403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104760" y="3786120"/>
            <a:ext cx="4775040" cy="2471760"/>
          </a:xfrm>
          <a:prstGeom prst="wedgeRoundRectCallout">
            <a:avLst>
              <a:gd name="adj1" fmla="val 32722"/>
              <a:gd name="adj2" fmla="val -8756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Conexão pode usar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SSL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, se configurada para tal e existir um certificado válid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Com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SSL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, há dupla criptografia: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RIJNDAEL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para as mensagens e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SSL assimétrica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para o canal de transmissã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Depois de criptografadas, as mensagens são convertidas para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base64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antes da transmissã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Pode usar “proxy server”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HTTP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353C-7D57-4692-A2AE-98D9252BF59A}" type="slidenum">
              <a:t>35</a:t>
            </a:fld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8820360" cy="5040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>
            <a:off x="509760" y="3600360"/>
            <a:ext cx="4684680" cy="2782800"/>
          </a:xfrm>
          <a:prstGeom prst="wedgeRoundRectCallout">
            <a:avLst>
              <a:gd name="adj1" fmla="val 69726"/>
              <a:gd name="adj2" fmla="val -2015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s mensagens recebidas são encaminhadas a um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despachante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, que tem a missão de selecionar um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digestor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apropriad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A implementação mínima de referência requer o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downloader: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um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digestor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que apenas grava a mensagem na fila de recepção, respeitando a estrutura dela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buClr>
                <a:srgbClr val="333333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Quem usa “web services” pode implementar seus digestores e configurá-los, colocando os nomes completos das classes em tiss.ini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1233-9C6B-4906-BF67-271ABCDE7145}" type="slidenum">
              <a:t>36</a:t>
            </a:fld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000" y="1731960"/>
            <a:ext cx="84582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schema          = file:./schemas/tiss200608v2_0.xsd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net.schema     = file:./schemas/tissnet.xsd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# Se não especificada, assume-se a subpasta "persistencia" do diretório base de instalação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persistencia.raiz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log.raiz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# Se não especificada, assume-se a subpasta "recepcao" do diretório de instalação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recepcao.raiz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certificado.arquivo = d:/Projetos/TISS/TissNet/chico.keys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certificado.senha   = ananananan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proxy.host    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proxy.port    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# Se não especificada, assume-se a subpasta "transmissao" do diretório de instalação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transmissao.raiz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porta.servidor      = 57057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certificado.prestador = NAO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transmitemensagem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verificaelegibilidade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solicitacaostatusprotocolo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solicitacaoprocedimento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solicitacaodemonstrativopagamento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solicitacaoanaliseconta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loteguias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cancelaguia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336600" y="1192320"/>
            <a:ext cx="704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Configurável por arquivo de parâmetros (tiss.ini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81C3-2CEB-41EC-BB29-165153DE8AE9}" type="slidenum">
              <a:t>37</a:t>
            </a:fld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0000" y="1731960"/>
            <a:ext cx="84582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schema         = </a:t>
            </a:r>
            <a:r>
              <a:rPr b="0" lang="en-GB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file:./schemas/tiss200608v2_0.xsd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net.schema    = file:./schema/tissnet.xsd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# Se não especificada, assume-se a subpasta "persistencia" do diretório base de instalação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persistencia.raiz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log.raiz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# Se não especificada, assume-se a subpasta "recepcao" do diretório de instalação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recepcao.raiz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certificado.arquivo = d:/Projetos/TISS/TissNet/chico.keys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certificado.senha   = ananananan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proxy.host    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proxy.port    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# Se não especificada, assume-se a subpasta "transmissao" do diretório de instalação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transmissao.raiz =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porta.servidor      = 57057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certificado.prestador = NAO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#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transmitemensagem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verificaelegibilidade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solicitacaostatusprotocolo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solicitacaoprocedimento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solicitacaodemonstrativopagamento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solicitacaoanaliseconta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loteguias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Verdana"/>
              </a:rPr>
              <a:t>tiss.digestor.webservices.cancelaguia = br.gov.ans.tiss.digestores.Downloader</a:t>
            </a:r>
            <a:endParaRPr b="0" lang="en-US" sz="1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336600" y="1192320"/>
            <a:ext cx="704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Configurável por arquivo de parâmetros (tiss.ini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1800360"/>
            <a:ext cx="6300720" cy="2520720"/>
          </a:xfrm>
          <a:prstGeom prst="wedgeRoundRectCallout">
            <a:avLst>
              <a:gd name="adj1" fmla="val 9861"/>
              <a:gd name="adj2" fmla="val 870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Usuário pode escrever seus próprios digestores para cada serviço provido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Bastará recompilar o aplicativo a partir dos fontes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O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Tornar o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JAR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que contem os digestores acessível ao “application server”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Cada digestor deve implementar a interface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Digestor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2DFF-2747-4E6A-82F5-C996DD90B172}" type="slidenum">
              <a:t>38</a:t>
            </a:fld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92160" y="12780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131760" y="2916360"/>
            <a:ext cx="4684680" cy="3036600"/>
          </a:xfrm>
          <a:prstGeom prst="wedgeRoundRectCallout">
            <a:avLst>
              <a:gd name="adj1" fmla="val 78657"/>
              <a:gd name="adj2" fmla="val -51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e a máquina destino for uma URL envolvendo WSDL, o cliente tenta se comunicar usando o “web service” indicado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e se tratar de um “hostname”, estabelece conexão soquete a soquete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Cadastramento pode ser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manual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ou através de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arquivo XML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 aderente ao esquema </a:t>
            </a:r>
            <a:r>
              <a:rPr b="1" lang="en-GB" sz="1400" spc="-1" strike="noStrike">
                <a:solidFill>
                  <a:srgbClr val="333333"/>
                </a:solidFill>
                <a:latin typeface="Verdana"/>
              </a:rPr>
              <a:t>tissnet.xsd</a:t>
            </a: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. Neste último caso, basta “arrastar” os arquivos ou diretórios  para cá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151B-45B0-4AE2-BCF6-244768AB210E}" type="slidenum">
              <a:t>39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Origen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0000" y="126000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TISS -&gt;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T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roca de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I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nformações em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S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aúde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S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uplementar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Padrão definia formato, método e conteúdo, mas não forma de comunicação na troca de mensagen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Implementação de referência registrava transações e gerava mensagens, mas não trocava mensagen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SzPct val="4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cc6633"/>
                </a:solidFill>
                <a:latin typeface="Verdana"/>
              </a:rPr>
              <a:t>Padrão de troca de mensagens que não trocava mensagens!!!</a:t>
            </a:r>
            <a:endParaRPr b="0" lang="en-US" sz="26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ecessidade de oferta de sugestão de implementação de referência para cobrir, pelo menos, a forma mais simples de troca de mensagen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8F57-40D5-49F8-BF9C-5B7A17225E06}" type="slidenum">
              <a:t>4</a:t>
            </a:fld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992160" y="12780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0" name=""/>
          <p:cNvSpPr/>
          <p:nvPr/>
        </p:nvSpPr>
        <p:spPr>
          <a:xfrm>
            <a:off x="174600" y="1995480"/>
            <a:ext cx="3164040" cy="1174680"/>
          </a:xfrm>
          <a:prstGeom prst="wedgeRoundRectCallout">
            <a:avLst>
              <a:gd name="adj1" fmla="val 89449"/>
              <a:gd name="adj2" fmla="val 18683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Cliente visual tem tela para definição de parâmetros de configuração do tiss.ini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AD97-72E7-4449-9210-BB23675E5331}" type="slidenum">
              <a:t>40</a:t>
            </a:fld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mplement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0000" y="126000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Plataformas de Teste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 -&gt; Windows XP Professional e Kurumin Linux (“freeware”).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Kit” de Desenvolvimento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 -&gt; JDK 1.5.0 da SUN (“freeware”).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Software” de Terceiros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 -&gt; </a:t>
            </a:r>
            <a:r>
              <a:rPr b="1" lang="en-GB" sz="2000" spc="-1" strike="noStrike">
                <a:solidFill>
                  <a:srgbClr val="333333"/>
                </a:solidFill>
                <a:latin typeface="Verdana"/>
              </a:rPr>
              <a:t>Bouncy Castle Cryptographic Provider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 (“freeware”), implementação de criptografia </a:t>
            </a:r>
            <a:r>
              <a:rPr b="1" lang="en-GB" sz="2000" spc="-1" strike="noStrike">
                <a:solidFill>
                  <a:srgbClr val="333333"/>
                </a:solidFill>
                <a:latin typeface="Verdana"/>
              </a:rPr>
              <a:t>RIJNDAEL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; </a:t>
            </a:r>
            <a:r>
              <a:rPr b="1" lang="en-GB" sz="2000" spc="-1" strike="noStrike">
                <a:solidFill>
                  <a:srgbClr val="333333"/>
                </a:solidFill>
                <a:latin typeface="Verdana"/>
              </a:rPr>
              <a:t>Christian d'Heureuse,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 Inventec Informatik AG (Suíça), codificador/ decodificador </a:t>
            </a:r>
            <a:r>
              <a:rPr b="1" lang="en-GB" sz="2000" spc="-1" strike="noStrike">
                <a:solidFill>
                  <a:srgbClr val="333333"/>
                </a:solidFill>
                <a:latin typeface="Verdana"/>
              </a:rPr>
              <a:t>Base64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 (“freeware”).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IDE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 -&gt; NetBeans 5.0/5.5 (“freeware”).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Web Services”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 -&gt; segue padrão JSR-181 (“web services” com EJB 3.0) – testes feitos no </a:t>
            </a:r>
            <a:r>
              <a:rPr b="1" lang="en-GB" sz="2000" spc="-1" strike="noStrike">
                <a:solidFill>
                  <a:srgbClr val="333333"/>
                </a:solidFill>
                <a:latin typeface="Verdana"/>
              </a:rPr>
              <a:t>Glassfish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 (“freeware”), mas qualquer servidor que siga o padrão é capaz de executar.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3999-7707-457E-9F39-374A2CFC856C}" type="slidenum">
              <a:t>41</a:t>
            </a:fld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Direções Futura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160" y="126000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Mensagens TISS como parte de transações “on line” </a:t>
            </a:r>
            <a:r>
              <a:rPr b="1" lang="en-GB" sz="2200" spc="-1" strike="noStrike" u="sng">
                <a:solidFill>
                  <a:srgbClr val="333333"/>
                </a:solidFill>
                <a:uFillTx/>
                <a:latin typeface="Verdana"/>
              </a:rPr>
              <a:t>“web services”</a:t>
            </a: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ou outra tecnologia de uso igualmente amplo =&gt; já há implementação de referência a partir da versão 2.0 do TISSNet, usando o “downloader” como digestor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Versão 3.0 prevê 8 “web services”: o original, para transmitir qualquer mensagem TISS, e 1 para cada mensagem TISS possível, isoladamente, com controle de sintaxe da resposta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Padrão de comunicação para parte dos dados trocados entre as operadoras e a AN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879B-8A67-40E7-89E3-AA10D6D1F671}" type="slidenum">
              <a:t>42</a:t>
            </a:fld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Direções Futura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700000" y="1260360"/>
            <a:ext cx="611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333333"/>
                </a:solidFill>
                <a:uFillTx/>
                <a:latin typeface="Verdana"/>
              </a:rPr>
              <a:t>Primeiro serviço: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XML atual das mensagens “envelopado” como texto em uma mensagem do padrão adotado. O p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adrão atual não mudaria, minimizando-se o impacto em aplicativos existentes.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Implementação de referência foi expandida, tornando-se, opcionalmente, consumidora e produtora de serviços no novo padrão.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WSDL do serviço foi submetido ao subcomitê de comunicação e segurança do TISS para exame e aprovação.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Como resultado, o comitê decidiu criar um “web service” para cada troca possível de mensagem TISS, expandindo ainda mais as possibilidades.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As trocas eletrônicas deverão ser inauguradas, em maio de 2007, já com esta configuração.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79280" y="1260000"/>
            <a:ext cx="2340000" cy="5040360"/>
          </a:xfrm>
          <a:prstGeom prst="rect">
            <a:avLst/>
          </a:prstGeom>
          <a:solidFill>
            <a:srgbClr val="e6e64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1000"/>
              </a:lnSpc>
              <a:spcAft>
                <a:spcPts val="13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Mensagens TISS como parte de transações “on line”..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291E-915E-43A3-B72E-C5041ADB558F}" type="slidenum">
              <a:t>43</a:t>
            </a:fld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Direções Futura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3160" y="1260000"/>
            <a:ext cx="2527200" cy="5040360"/>
          </a:xfrm>
          <a:prstGeom prst="rect">
            <a:avLst/>
          </a:prstGeom>
          <a:solidFill>
            <a:srgbClr val="e6e64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1000"/>
              </a:lnSpc>
              <a:spcAft>
                <a:spcPts val="13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Padrão de comunicação para parte dos dados trocados entre as operadoras e a AN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879640" y="1260360"/>
            <a:ext cx="6107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Depende de análise caso a caso dos processos de comunicação hoje existentes.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Padrão </a:t>
            </a: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TISS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 atualmente </a:t>
            </a:r>
            <a:r>
              <a:rPr b="1" lang="en-GB" sz="1600" spc="-1" strike="noStrike" u="sng">
                <a:solidFill>
                  <a:srgbClr val="333333"/>
                </a:solidFill>
                <a:uFillTx/>
                <a:latin typeface="Verdana"/>
              </a:rPr>
              <a:t>não prevê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 nem mensagens operadora -&gt; ANS nem mensagens ANS -&gt; operadora =&gt; teria que haver revisão do conteúdo.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Há um projeto piloto em curso (reformulação do </a:t>
            </a: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DIOPS).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6931-C342-4926-92BA-130946DB4453}" type="slidenum">
              <a:t>44</a:t>
            </a:fld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71280" y="1008000"/>
            <a:ext cx="9072720" cy="55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types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schema targetNamespace="http://www.ans.gov.br/tiss/ws/tipos/tissVerificaElegibilidade"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xmlns:tns="http://www.ans.gov.br/tiss/ws/tipos/tissVerificaElegibilidade"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xmlns:soap11-enc="http://schemas.xmlsoap.org/soap/encoding/"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xmlns:xsi="http://www.w3.org/2001/XMLSchema-instance"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xmlns:wsdl="http://schemas.xmlsoap.org/wsdl/"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xmlns="http://www.w3.org/2001/XMLSchema"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import namespace="http://www.ans.gov.br/padroes/tiss/schemas" schemaLocation="file:../schemas/tiss200608v2_0.xsd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complexType name="ws_verificaElegibilidade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sequenc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cabecalho" type="ans:cabecalhoTransacao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verificaElegibilidade" type="ans:ct_solicitaElegibilidade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hash" type="string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sequenc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complexTyp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complexType name="ws_respostaElegibilidade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sequenc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cabecalho" type="ans:cabecalhoTransacao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respostaElegibilidade" type="ans:ct_retornoElegibilidade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hash" type="string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sequenc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complexTyp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solicitaElegibilidade" type="tns:ws_verificaElegibilidade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retornoElegibilidade" type="tns:ws_respostaElegibilidade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DestinatarioInvalido" type="xsd:string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RemetenteInvalido" type="xsd:string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VersaoInvalida" type="xsd:string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lement name="HashInvalido" type="xsd:string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schema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types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80000" y="4680000"/>
            <a:ext cx="306072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Primeira seção do WSDL defi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os tip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DA9F-BB80-44FA-83FE-06A86E94E132}" type="slidenum">
              <a:t>45</a:t>
            </a:fld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123840" y="1346040"/>
            <a:ext cx="876924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message name ="tissVerificaElegibilidade_Request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part name="pedidoElegibilidade" element="tns:solicitaElegibilidade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messag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message name ="tissVerificaElegibilidade_Response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part name="pedidoElegibilidade" element="tns:retornoElegibilidade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messag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message name="DestinatarioInvalido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part name="DestinatarioInvalido" element="tns:DestinatarioInvalido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messag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message name="RemetenteInvalido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part name="RemetenteInvalido" element="tns:RemetenteInvalido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messag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message name="VersaoInvalida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part name="VersaoInvalida" element="tns:VersaoInvalida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messag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message name="HashInvalido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part name="HashInvalido" element="tns:HashInvalido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messag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80000" y="4680000"/>
            <a:ext cx="306072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Depois, as mensagens a parti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dos tipos..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9FA7-57B0-4EED-B1E5-3704A13487D5}" type="slidenum">
              <a:t>46</a:t>
            </a:fld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"/>
          <p:cNvSpPr/>
          <p:nvPr/>
        </p:nvSpPr>
        <p:spPr>
          <a:xfrm>
            <a:off x="355680" y="1352520"/>
            <a:ext cx="81057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portType name="tissVerificaElegibilidade_PortType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operation name="tissVerificaElegibilidade_Operation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input message="tns:tissVerificaElegibilidade_Request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output message="tns:tissVerificaElegibilidade_Response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fault name="DestinatarioInvalido" message="tns:DestinatarioInvalido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fault name="RemetenteInvalido" message="tns:RemetenteInvalido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fault name="VersaoInvalida" message="tns:VersaoInvalida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fault name="HashInvalido" message="tns:HashInvalido"/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operation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portType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0000" y="4680000"/>
            <a:ext cx="306072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Finalmente, as operações 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erviç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7A2B-6C44-4EAF-ACC7-D1AF373B27A1}" type="slidenum">
              <a:t>47</a:t>
            </a:fld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"/>
          <p:cNvSpPr/>
          <p:nvPr/>
        </p:nvSpPr>
        <p:spPr>
          <a:xfrm>
            <a:off x="162000" y="1106640"/>
            <a:ext cx="8658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@Stateles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@WebService(serviceName = "tissVerificaElegibilidade", portName = "tissVerificaElegibilidade_Port", endpointInterface = "br.gov.ans.tiss.ws.tipos.tissverificaelegibilidade.TissVerificaElegibilidadePortType", targetNamespace = "http://www.ans.gov.br/tiss/ws/tipos/tissVerificaElegibilidade", wsdlLocation = "META-INF/wsdl/tissVerificaElegibilidade/tissVerificaElegibilidade.wsdl")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ublic class tissVerificaElegibilidade implements br.gov.ans.tiss.ws.tipos.tissverificaelegibilidade.TissVerificaElegibilidadePortType {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/** Creates a new instance of tissVerificaElegibilidade *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ublic tissVerificaElegibilidade() {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}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ublic WsRespostaElegibilidade tissVerificaElegibilidadeOperation(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sVerificaElegibilidade pedidoElegibilidade)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throws VersaoInvalida,    RemetenteInvalido,     DestinatarioInvalido,     HashInvalido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{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// obtem digestor para o serviç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..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// constrói objeto de entrad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MensagemTISS w_mens = new MensagemTISS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mens.setCabecalho( pedidoElegibilidade.getCabecalho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mens.setPrestadorParaOperadora( new MensagemTISS.PrestadorParaOperadora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mens.getPrestadorParaOperadora().setVerificaElegibilidade( pedidoElegibilidade.getVerificaElegibilidade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mens.setEpilogo( new MensagemTISS.Epilogo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mens.getEpilogo().setHash( pedidoElegibilidade.getHash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// despacha mensage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Despachante  w_dspt         = new Despachante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dspt.setWebService( true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Object w_resp               = w_dspt.processa( w_mens, this.getDigestor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// interpreta retorno do despachante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519280"/>
            <a:ext cx="3060720" cy="126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Classe JAVA que provê 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serviç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C82D-B8CD-4316-8CB5-62C26E224DF3}" type="slidenum">
              <a:t>48</a:t>
            </a:fld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81000" y="1054080"/>
            <a:ext cx="9063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@WebServiceClient(name = "tissVerificaElegibilidade", targetNamespace = "http://www.ans.gov.br/tiss/ws/tipos/tissVerificaElegibilidade", wsdlLocation = "META-INF/wsdl/tissVerificaElegibilidade/tissVerificaElegibilidade.wsdl")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ublic class tissVerificaElegibilidade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extends Service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{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rivate final static QName WSTISS = new QName("http://www.ans.gov.br/tiss/ws/tipos/tissVerificaElegibilidade", "tissVerificaElegibilidade"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rivate final static QName WSTISSPORT = new QName("http://www.ans.gov.br/tiss/ws/tipos/tissVerificaElegibilidade", "tissVerificaElegibilidade_Port"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ublic tissVerificaElegibilidade(URL wsdlLocation, QName serviceName) {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super(wsdlLocation, serviceName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}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ublic tissVerificaElegibilidade(String wsdlLocation, QName serviceName) throws MalformedURLException {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super(new URL(wsdlLocation), serviceName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}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ublic tissVerificaElegibilidade(String wsdlLocation) throws MalformedURLException {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super(new URL(wsdlLocation), WSTISS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}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/**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*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* @return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*     returns TissTransmiteMensagemPortType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*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@WebEndpoint(name = "tissVerificaElegibilidade_Port")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ublic TissVerificaElegibilidadePortType getPort() {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return (TissVerificaElegibilidadePortType)super.getPort(WSTISSPORT, TissVerificaElegibilidadePortType.class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}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80000" y="4319640"/>
            <a:ext cx="306072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Classe JAVA cliente do serviç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9325-B98A-4C23-8F95-382883CAD411}" type="slidenum">
              <a:t>49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Origen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Subcomitê de </a:t>
            </a: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COMUNICAÇÃO E SEGURANÇA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do TISS optou por estabelecer um guia de “melhores práticas” e um padrão para comunicação transacional baseado em “web services” (ou outra tecnologia de amplo uso que venha a se estabelecer)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A comunicação hoje JÁ SE FAZ via terminais ou aplicativos POS proprietários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A </a:t>
            </a: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ANS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tenta oferecer uma opção para comunicação simples, não transacional, baseada em padrão aberto de rede e protocolo =&gt; uma </a:t>
            </a:r>
            <a:r>
              <a:rPr b="1" lang="en-GB" sz="2200" spc="-1" strike="noStrike" u="sng">
                <a:solidFill>
                  <a:srgbClr val="333333"/>
                </a:solidFill>
                <a:uFillTx/>
                <a:latin typeface="Verdana"/>
              </a:rPr>
              <a:t>sugestão de implementação não proprietária que possa ser usada pela INTERNET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7081-ECD6-4579-9DB0-D62AD0F589DC}" type="slidenum">
              <a:t>5</a:t>
            </a:fld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"/>
          <p:cNvSpPr/>
          <p:nvPr/>
        </p:nvSpPr>
        <p:spPr>
          <a:xfrm>
            <a:off x="127080" y="1287360"/>
            <a:ext cx="86929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// inicializa serviç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tissSolicitacaoStatusProtocolo w_cliente = new tissSolicitacaoStatusProtocolo(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"http://localhost:8181/tissSolicitacaoStatusProtocolo/tissSolicitacaoStatusProtocolo?wsdl"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TissSolicitacaoStatusProtocoloPortType w_port = w_cliente.getPort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// constrói parâmetr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sSolicitacaoStatusProtocolo w_parm = new WsSolicitacaoStatusProtocolo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80000" y="4680000"/>
            <a:ext cx="306072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O serviço sendo consumido -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inicialização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C4DA-F718-4E56-A831-9489590A15F2}" type="slidenum">
              <a:t>50</a:t>
            </a:fld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287280" y="1071720"/>
            <a:ext cx="8547120" cy="54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setCabecalho( new CabecalhoTransacao() );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setOrigem( new CabecalhoTransacao.Origem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getOrigem().setCodigoPrestadorNaOperadora( "987654321"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setDestino( new CabecalhoTransacao.Destino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getDestino().setRegistroANS("304600"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setIdentificacaoTransacao( new CabecalhoTransacao.IdentificacaoTransacao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getIdentificacaoTransacao().setDataRegistroTransacao(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DatatypeFactoryImpl.newInstance() .newXMLGregorianCalendarDate(2006,10,10,DatatypeConstants.FIELD_UNDEFINED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getIdentificacaoTransacao().setHoraRegistroTransacao(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DatatypeFactoryImpl.newInstance() .newXMLGregorianCalendarTime(10,10,0,DatatypeConstants.FIELD_UNDEFINED)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setVersaoPadrao("2.00"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getIdentificacaoTransacao().setTipoTransacao( StTipoTransacao.SOLIC_STATUS_PROTOCOLO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Cabecalho().getIdentificacaoTransacao().setSequencialTransacao( new BigInteger("351"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setSolicitacaoStatusProtocolo( new CtSolicitacaoStatusProtocolo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SolicitacaoStatusProtocolo().setDadosPrestador( new CtContratado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SolicitacaoStatusProtocolo().getDadosPrestador().setIdentificacao( new CtIdentificacaoPrestador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SolicitacaoStatusProtocolo().getDadosPrestador().getIdentificacao().setCpf( "53627083768"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SolicitacaoStatusProtocolo().getDadosPrestador().setNomeContratado("FRANCISCO CARLOS PIRAGIBE DE ALMEIDA"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SolicitacaoStatusProtocolo().setRegistroANS("304600"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SolicitacaoStatusProtocolo().setDataSolicitacao(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DatatypeFactoryImpl.newInstance() .newXMLGregorianCalendarDate(2006,10,10,DatatypeConstants.FIELD_UNDEFINED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SolicitacaoStatusProtocolo().getNumeroProtocolo()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.add( new BigInteger("345670"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getSolicitacaoStatusProtocolo().getNumeroProtocolo()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.add( new BigInteger("345684"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parm.setHash("b30f45cb2e68c6f60db900f5cd8c8e614d"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80000" y="4680000"/>
            <a:ext cx="306072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O serviço sendo consumido -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preparação dos parâmetros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4527-6824-4496-ACE4-32881AE0B74D}" type="slidenum">
              <a:t>51</a:t>
            </a:fld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127080" y="1430280"/>
            <a:ext cx="8692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// dispara pedid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sSituacaoProtocolo w_resp = w_port.tissSolicitacaoStatusProtocoloOperation( w_parm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80000" y="4680000"/>
            <a:ext cx="306072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O serviço sendo consumido -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chamada à operação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D1A4-661B-432B-A5FF-2C458DC59497}" type="slidenum">
              <a:t>52</a:t>
            </a:fld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108000" y="1390680"/>
            <a:ext cx="889164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public Document carregaElemento( MensagemTISS pElemento )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throws ParserConfigurationException,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JAXBException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{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this.ultimoDocumento    = null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DocumentBuilder w_db    = this.fabricaDom.newDocumentBuilder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w_db.setErrorHandler( this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this.ultimoDocumento    = w_db.newDocument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JAXBContext jaxbContext = JAXBContext.newInstance(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"br.gov.ans.padroes.tiss.schemas"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Marshaller marshaller   = jaxbContext.createMarshaller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marshaller.setProperty( "jaxb.formatted.output", new Boolean( true 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marshaller.marshal( pElemento, this.getUltimoDocumento()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StringWriter w_sw       = new StringWriter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marshaller.marshal( pElemento, w_sw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this.textoXML           = w_sw.toString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System.out.println( this.textoXML 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return this.getUltimoDocumento()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}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0000" y="4680000"/>
            <a:ext cx="306072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Uso do JAXB – Java Api for XM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Bindin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7DEC-6979-4B5D-BB47-ABCA349EAF1E}" type="slidenum">
              <a:t>53</a:t>
            </a:fld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Anatomia de Um Web Servi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108000" y="1031760"/>
            <a:ext cx="88916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?xml version="1.0" encoding="UTF-8" standalone="yes"?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mensagemTISS xmlns="http://www.ans.gov.br/padroes/tiss/schemas"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cabecalh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identificacaoTransaca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tipoTransacao&gt;SOLIC_STATUS_PROTOCOLO&lt;/tipoTransaca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sequencialTransacao&gt;351&lt;/sequencialTransaca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dataRegistroTransacao&gt;2006-10-10&lt;/dataRegistroTransaca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horaRegistroTransacao&gt;10:10:00&lt;/horaRegistroTransaca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identificacaoTransaca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origem&gt;   &lt;codigoPrestadorNaOperadora&gt;987654321&lt;/codigoPrestadorNaOperadora&gt;   &lt;/origem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destin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registroANS&gt;304600&lt;/registroANS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destin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versaoPadrao&gt;2.00&lt;/versaoPadra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cabecalh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prestadorParaOperadora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solicitacaoStatusProtocol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dadosPrestador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identificacao&gt;  &lt;cpf&gt;53627083768&lt;/cpf&gt;   &lt;/identificaca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nomeContratado&gt;FRANCISCO CARLOS PIRAGIBE DE ALMEIDA&lt;/nomeContratad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dadosPrestador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registroANS&gt;304600&lt;/registroANS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dataSolicitacao&gt;2006-10-10&lt;/dataSolicitaca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numeroProtocolo&gt;345670&lt;/numeroProtocol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numeroProtocolo&gt;345684&lt;/numeroProtocol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solicitacaoStatusProtocol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prestadorParaOperadora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epilogo&gt;   &lt;hash&gt;b30f45cb2e68c6f60db900f5cd8c8e614d&lt;/hash&gt;  &lt;/epilogo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 Narrow"/>
              </a:rPr>
              <a:t>&lt;/mensagemTISS&gt;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80000" y="4680000"/>
            <a:ext cx="306072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XML gerado a partir de objeto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JAVA pelo JAXB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9A6F-115E-4977-BFF9-82C63C78FCB7}" type="slidenum">
              <a:t>54</a:t>
            </a:fld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Interoperabilidad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Padrão </a:t>
            </a: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TISS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deve se manter </a:t>
            </a: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neutro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quanto a: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41240" indent="-284040" algn="just">
              <a:lnSpc>
                <a:spcPct val="101000"/>
              </a:lnSpc>
              <a:spcAft>
                <a:spcPts val="1250"/>
              </a:spcAft>
              <a:buClr>
                <a:srgbClr val="80a000"/>
              </a:buClr>
              <a:buSzPct val="4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SGBDs hospedeiro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41240" indent="-284040" algn="just">
              <a:lnSpc>
                <a:spcPct val="101000"/>
              </a:lnSpc>
              <a:spcAft>
                <a:spcPts val="1250"/>
              </a:spcAft>
              <a:buClr>
                <a:srgbClr val="80a000"/>
              </a:buClr>
              <a:buSzPct val="4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linguagem de programação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41240" indent="-284040" algn="just">
              <a:lnSpc>
                <a:spcPct val="101000"/>
              </a:lnSpc>
              <a:spcAft>
                <a:spcPts val="1250"/>
              </a:spcAft>
              <a:buClr>
                <a:srgbClr val="80a000"/>
              </a:buClr>
              <a:buSzPct val="4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sistemas operacionais hospedeiro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41240" indent="-284040" algn="just">
              <a:lnSpc>
                <a:spcPct val="101000"/>
              </a:lnSpc>
              <a:spcAft>
                <a:spcPts val="1250"/>
              </a:spcAft>
              <a:buClr>
                <a:srgbClr val="80a000"/>
              </a:buClr>
              <a:buSzPct val="4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Integradores e fornecedores de soluçõ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41240" indent="-284040" algn="just">
              <a:lnSpc>
                <a:spcPct val="101000"/>
              </a:lnSpc>
              <a:spcAft>
                <a:spcPts val="1250"/>
              </a:spcAft>
              <a:buClr>
                <a:srgbClr val="80a000"/>
              </a:buClr>
              <a:buSzPct val="4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Protocolos de comunicação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Serão incorporadas ao padrão apenas tecnologias de amplo uso e aceitação, que não impactem a neutralidade do projeto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A ANS promoverá a utilização crescente do padrão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3D285-32AD-43E0-9ECA-37CCA36B4AD5}" type="slidenum">
              <a:t>5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Requisitos do Padr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8000"/>
                </a:solidFill>
                <a:uFillTx/>
                <a:latin typeface="Verdana"/>
              </a:rPr>
              <a:t>PORTABILIDADE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– o componente de comunicação deve poder executar em qualquer sistema operacional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8000"/>
                </a:solidFill>
                <a:uFillTx/>
                <a:latin typeface="Verdana"/>
              </a:rPr>
              <a:t>SEGURANÇA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– o tráfego gerado pelo componente deve ser criptografado por padrão mundial de segurança comprovada e aceitável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8000"/>
                </a:solidFill>
                <a:uFillTx/>
                <a:latin typeface="Verdana"/>
              </a:rPr>
              <a:t>LEVEZA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– as informações transmitidas devem fluir no menor número possível de “bytes”, com o máximo possível de compressão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8000"/>
                </a:solidFill>
                <a:uFillTx/>
                <a:latin typeface="Verdana"/>
              </a:rPr>
              <a:t>FACILIDADE DE USO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– um pequeno prestador deve poder transmitir seus dados sem dificuldade de ordem técnica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2490-77A7-4230-9C6A-A45C735627CC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480" y="66240"/>
            <a:ext cx="88390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- Requisitos do Padr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8000"/>
                </a:solidFill>
                <a:uFillTx/>
                <a:latin typeface="Verdana"/>
              </a:rPr>
              <a:t>MODULARIDADE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– o componente de comunicação deve poder se integrar, de forma transparente, a uma aplicação desenvolvida, que deve ter a liberdade para comandá-lo internamente &lt;=&gt; o componente deve se apresentar como um “</a:t>
            </a:r>
            <a:r>
              <a:rPr b="1" lang="en-GB" sz="2200" spc="-1" strike="noStrike">
                <a:solidFill>
                  <a:srgbClr val="333333"/>
                </a:solidFill>
                <a:latin typeface="Verdana"/>
              </a:rPr>
              <a:t>objeto opaco”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, com uma interface de uso bem definida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1280" indent="-341280" algn="just">
              <a:lnSpc>
                <a:spcPct val="101000"/>
              </a:lnSpc>
              <a:spcAft>
                <a:spcPts val="1375"/>
              </a:spcAft>
              <a:buClr>
                <a:srgbClr val="80a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8000"/>
                </a:solidFill>
                <a:uFillTx/>
                <a:latin typeface="Verdana"/>
              </a:rPr>
              <a:t>EXTENSIBILIDADE</a:t>
            </a:r>
            <a:r>
              <a:rPr b="0" lang="en-GB" sz="2200" spc="-1" strike="noStrike">
                <a:solidFill>
                  <a:srgbClr val="333333"/>
                </a:solidFill>
                <a:latin typeface="Verdana"/>
              </a:rPr>
              <a:t> – o componente de comunicação deve poder ser facilmente expandido, para incorporar novas técnicas e formas de transmissão (“web services”, envio de mensagens que não estejam em XML, etc).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DC2D-4D1B-4AA4-8EB6-4D76A5DE869B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0480" y="110880"/>
            <a:ext cx="8839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Cenários de Us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1440000" y="1800360"/>
            <a:ext cx="1620720" cy="36036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Prestad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79640" y="2428920"/>
            <a:ext cx="900360" cy="450720"/>
          </a:xfrm>
          <a:prstGeom prst="rect">
            <a:avLst/>
          </a:prstGeom>
          <a:ln w="0">
            <a:noFill/>
          </a:ln>
        </p:spPr>
      </p:pic>
      <p:cxnSp>
        <p:nvCxnSpPr>
          <p:cNvPr id="134" name=""/>
          <p:cNvCxnSpPr>
            <a:stCxn id="132" idx="2"/>
            <a:endCxn id="133" idx="1"/>
          </p:cNvCxnSpPr>
          <p:nvPr/>
        </p:nvCxnSpPr>
        <p:spPr>
          <a:xfrm>
            <a:off x="2249640" y="2160360"/>
            <a:ext cx="630720" cy="49572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959280" y="2340000"/>
            <a:ext cx="1439640" cy="720720"/>
          </a:xfrm>
          <a:prstGeom prst="leftRightArrow">
            <a:avLst>
              <a:gd name="adj1" fmla="val 50000"/>
              <a:gd name="adj2" fmla="val 3976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TIS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2519280"/>
            <a:ext cx="1979640" cy="36036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Operado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3363840"/>
            <a:ext cx="8459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Prestador x Operadora em Transmissão Direta via POS ou Dispositivo Especializado Equivale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3054-033A-4EC7-B4CC-38AE4598982A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480" y="110880"/>
            <a:ext cx="8839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Narrow"/>
              </a:rPr>
              <a:t>TISSNet – Cenários de Us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0720" y="2143080"/>
            <a:ext cx="7219800" cy="14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260360" y="4834080"/>
            <a:ext cx="6677280" cy="128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4240" y="3722760"/>
            <a:ext cx="8916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Prestador x Operadora Comunicando-se via Provedor de Conectividade Contratado pela Operado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203480"/>
            <a:ext cx="89172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Prestador x Operadora Comunicando-se via Provedor de Conectividade Contratado pelo Prestad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FE78-B2AF-4DF2-B420-93F8F507854E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cisco Carlos Piragibe de Al</cp:lastModifiedBy>
  <cp:revision>0</cp:revision>
  <dc:subject/>
  <dc:title/>
</cp:coreProperties>
</file>